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60A-DC3D-4FE4-AC79-6650E4BB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C35-DADE-48C4-BB13-DE8B4F44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780-3A5E-45B2-AC42-DB687A22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4D0-BB4C-4E43-949F-62E4C1A0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2BA-F6B5-4EB2-9CDF-21B17784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663-4B63-496E-AEE9-FF3C28CA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58B-3146-43A7-BB21-4DF5C15E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20B-A24B-41F6-9E39-FC33E5AC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C8D-411B-4DF9-B6E0-680FC252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C8B-15AB-4340-8792-EEE71D0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C58-3FB0-4040-8158-DA5F3BFB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7F9-5EA2-4B47-AE40-2979F74B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DE64-62BA-4B4A-8480-E671A1F180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89120" y="501480"/>
            <a:ext cx="5657760" cy="5650200"/>
            <a:chOff x="1689120" y="501480"/>
            <a:chExt cx="5657760" cy="5650200"/>
          </a:xfrm>
        </p:grpSpPr>
        <p:grpSp>
          <p:nvGrpSpPr>
            <p:cNvPr id="42" name=""/>
            <p:cNvGrpSpPr/>
            <p:nvPr/>
          </p:nvGrpSpPr>
          <p:grpSpPr>
            <a:xfrm>
              <a:off x="1974960" y="977760"/>
              <a:ext cx="4984560" cy="4984920"/>
              <a:chOff x="1974960" y="977760"/>
              <a:chExt cx="4984560" cy="498492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1974960" y="977760"/>
                <a:ext cx="4984560" cy="4984920"/>
                <a:chOff x="1974960" y="977760"/>
                <a:chExt cx="4984560" cy="49849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29718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22092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47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7195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197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2240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732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72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96864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181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6408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7135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596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2118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4672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71636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9658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521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4612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71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9718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22092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47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7195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97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2240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732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72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96864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2181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46408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7135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96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2118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4672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71636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9658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21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612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71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9718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22092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7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195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97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2240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4732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2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96864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2181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46408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7135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6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2118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4672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71636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9658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21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4612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1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9718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22092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47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7195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7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2240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4732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72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96864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2181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46408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7135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96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2118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4672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71636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658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1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4612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1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9718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2092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47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7195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7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2240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4732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72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6864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2181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46408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7135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96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2118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4672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71636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658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21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4612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71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9718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22092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7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7195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7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2240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4732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72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864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181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46408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7135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96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118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4672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71636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9658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21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4612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71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718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22092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47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7195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7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2240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4732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72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6864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2181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6408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135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96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2118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4672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1636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658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21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4612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71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9718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2092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47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7195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97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40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4732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72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96864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2181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46408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135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6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2118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672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71636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658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21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4612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71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9718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22092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47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195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7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2240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4732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6864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2181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46408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7135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96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2118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4672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71636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9658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1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4612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1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718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2092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47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7195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97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2240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4732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72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864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2181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6408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7135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6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118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4672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1636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658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21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4612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71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718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22092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47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7195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97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2240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4732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72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6864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2181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46408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7135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96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2118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4672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71636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9658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21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4612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71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718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22092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47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7195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97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2240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4732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72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96864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2181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46408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7135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6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2118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4672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1636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9658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21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4612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71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9718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22092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7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7195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97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2240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4732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72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96864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2181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6408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7135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6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2118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4672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1636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9658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21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4612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1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9718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22092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47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7195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97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240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4732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72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96864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2181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46408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135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96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2118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4672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71636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9658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21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4612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71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718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22092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47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7195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97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240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4732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72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96864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2181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6408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7135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96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2118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4672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71636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9658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21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4612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71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9718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22092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47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7195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97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240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4732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72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6864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2181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46408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7135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96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2118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4672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71636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9658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21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4612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1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9718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22092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47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7195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97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2240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732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72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96864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2181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46408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7135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96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2118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72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71636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9658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21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612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71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9718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22092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47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7195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7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40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732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72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96864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2181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46408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7135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96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2118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672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71636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9658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21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612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71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9718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2092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47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7195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97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240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4732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72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96864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181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46408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7135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96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118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4672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71636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658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21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4612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71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9718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22092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47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7195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97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240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4732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72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96864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2181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46408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7135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96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2118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4672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71636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658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21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4612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71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4467240" y="977760"/>
                <a:ext cx="0" cy="49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74960" y="3470400"/>
                <a:ext cx="498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4280040" y="3511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72120" y="34290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403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815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56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642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054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722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34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48520" y="34480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02320" y="34416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24800" y="344160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68480" y="3448080"/>
              <a:ext cx="3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5240" y="3448080"/>
              <a:ext cx="34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76440" y="3454560"/>
              <a:ext cx="31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6720" y="3448080"/>
              <a:ext cx="36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65320" y="3454560"/>
              <a:ext cx="37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25960" y="344808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73280" y="34480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20960" y="344808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00680" y="345456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89120" y="3441600"/>
              <a:ext cx="38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23240" y="328284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36920" y="5014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81480" y="31622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62400" y="2924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72120" y="2681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62400" y="24289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62400" y="21668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67080" y="19242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2400" y="16765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67080" y="142884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2400" y="11714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29280" y="919080"/>
              <a:ext cx="37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8000" y="365760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29280" y="3919680"/>
              <a:ext cx="32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19560" y="416232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4880" y="441468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14880" y="4676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14880" y="49100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9560" y="515772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10200" y="5415120"/>
              <a:ext cx="38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24240" y="5657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76720" y="59054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395960" y="3414600"/>
            <a:ext cx="147600" cy="114120"/>
            <a:chOff x="4395960" y="3414600"/>
            <a:chExt cx="147600" cy="114120"/>
          </a:xfrm>
        </p:grpSpPr>
        <p:sp>
          <p:nvSpPr>
            <p:cNvPr id="491" name=""/>
            <p:cNvSpPr/>
            <p:nvPr/>
          </p:nvSpPr>
          <p:spPr>
            <a:xfrm>
              <a:off x="4415040" y="341460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395960" y="342396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153040" y="2652840"/>
            <a:ext cx="147600" cy="114120"/>
            <a:chOff x="5153040" y="2652840"/>
            <a:chExt cx="147600" cy="114120"/>
          </a:xfrm>
        </p:grpSpPr>
        <p:sp>
          <p:nvSpPr>
            <p:cNvPr id="494" name=""/>
            <p:cNvSpPr/>
            <p:nvPr/>
          </p:nvSpPr>
          <p:spPr>
            <a:xfrm>
              <a:off x="5172120" y="265284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5153040" y="266220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95520" y="4405320"/>
            <a:ext cx="147600" cy="114120"/>
            <a:chOff x="3395520" y="4405320"/>
            <a:chExt cx="147600" cy="114120"/>
          </a:xfrm>
        </p:grpSpPr>
        <p:sp>
          <p:nvSpPr>
            <p:cNvPr id="497" name=""/>
            <p:cNvSpPr/>
            <p:nvPr/>
          </p:nvSpPr>
          <p:spPr>
            <a:xfrm>
              <a:off x="3414600" y="440532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395520" y="441468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 flipV="1">
            <a:off x="2819520" y="1895040"/>
            <a:ext cx="3228840" cy="321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402680" y="111744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38960" y="368604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y = 2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375080" y="3411360"/>
            <a:ext cx="147600" cy="114120"/>
            <a:chOff x="4375080" y="3411360"/>
            <a:chExt cx="147600" cy="114120"/>
          </a:xfrm>
        </p:grpSpPr>
        <p:sp>
          <p:nvSpPr>
            <p:cNvPr id="503" name=""/>
            <p:cNvSpPr/>
            <p:nvPr/>
          </p:nvSpPr>
          <p:spPr>
            <a:xfrm>
              <a:off x="4394160" y="341136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375080" y="342072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149800" y="1916280"/>
            <a:ext cx="147600" cy="114120"/>
            <a:chOff x="5149800" y="1916280"/>
            <a:chExt cx="147600" cy="114120"/>
          </a:xfrm>
        </p:grpSpPr>
        <p:sp>
          <p:nvSpPr>
            <p:cNvPr id="506" name=""/>
            <p:cNvSpPr/>
            <p:nvPr/>
          </p:nvSpPr>
          <p:spPr>
            <a:xfrm>
              <a:off x="5168880" y="191628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149800" y="192564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390840" y="5402160"/>
            <a:ext cx="147600" cy="114120"/>
            <a:chOff x="3390840" y="5402160"/>
            <a:chExt cx="147600" cy="114120"/>
          </a:xfrm>
        </p:grpSpPr>
        <p:sp>
          <p:nvSpPr>
            <p:cNvPr id="509" name=""/>
            <p:cNvSpPr/>
            <p:nvPr/>
          </p:nvSpPr>
          <p:spPr>
            <a:xfrm>
              <a:off x="3409920" y="540216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390840" y="541152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 flipH="1">
            <a:off x="3161880" y="977760"/>
            <a:ext cx="2552760" cy="5080320"/>
          </a:xfrm>
          <a:prstGeom prst="line">
            <a:avLst/>
          </a:prstGeom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3560" y="113364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y = 3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357800" y="3387600"/>
            <a:ext cx="209520" cy="152280"/>
            <a:chOff x="4357800" y="3387600"/>
            <a:chExt cx="209520" cy="152280"/>
          </a:xfrm>
        </p:grpSpPr>
        <p:sp>
          <p:nvSpPr>
            <p:cNvPr id="514" name=""/>
            <p:cNvSpPr/>
            <p:nvPr/>
          </p:nvSpPr>
          <p:spPr>
            <a:xfrm>
              <a:off x="4403880" y="338760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4357800" y="340020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62520" y="1882800"/>
            <a:ext cx="209520" cy="152280"/>
            <a:chOff x="4862520" y="1882800"/>
            <a:chExt cx="209520" cy="152280"/>
          </a:xfrm>
        </p:grpSpPr>
        <p:sp>
          <p:nvSpPr>
            <p:cNvPr id="517" name=""/>
            <p:cNvSpPr/>
            <p:nvPr/>
          </p:nvSpPr>
          <p:spPr>
            <a:xfrm>
              <a:off x="4908600" y="188280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862520" y="189540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624120" y="5645160"/>
            <a:ext cx="209520" cy="152280"/>
            <a:chOff x="3624120" y="5645160"/>
            <a:chExt cx="209520" cy="152280"/>
          </a:xfrm>
        </p:grpSpPr>
        <p:sp>
          <p:nvSpPr>
            <p:cNvPr id="520" name=""/>
            <p:cNvSpPr/>
            <p:nvPr/>
          </p:nvSpPr>
          <p:spPr>
            <a:xfrm>
              <a:off x="3670200" y="564516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624120" y="565776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 flipH="1">
            <a:off x="3644640" y="1219320"/>
            <a:ext cx="1587240" cy="472428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0200" y="372420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y = ½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95600" y="3397320"/>
            <a:ext cx="146160" cy="145800"/>
            <a:chOff x="4395600" y="3397320"/>
            <a:chExt cx="146160" cy="145800"/>
          </a:xfrm>
        </p:grpSpPr>
        <p:sp>
          <p:nvSpPr>
            <p:cNvPr id="525" name=""/>
            <p:cNvSpPr/>
            <p:nvPr/>
          </p:nvSpPr>
          <p:spPr>
            <a:xfrm>
              <a:off x="4398840" y="339732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4395600" y="340992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381720" y="2392200"/>
            <a:ext cx="146160" cy="145800"/>
            <a:chOff x="6381720" y="2392200"/>
            <a:chExt cx="146160" cy="145800"/>
          </a:xfrm>
        </p:grpSpPr>
        <p:sp>
          <p:nvSpPr>
            <p:cNvPr id="528" name=""/>
            <p:cNvSpPr/>
            <p:nvPr/>
          </p:nvSpPr>
          <p:spPr>
            <a:xfrm>
              <a:off x="6384960" y="239220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381720" y="240480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386320" y="2892600"/>
            <a:ext cx="146160" cy="145800"/>
            <a:chOff x="5386320" y="2892600"/>
            <a:chExt cx="146160" cy="145800"/>
          </a:xfrm>
        </p:grpSpPr>
        <p:sp>
          <p:nvSpPr>
            <p:cNvPr id="531" name=""/>
            <p:cNvSpPr/>
            <p:nvPr/>
          </p:nvSpPr>
          <p:spPr>
            <a:xfrm>
              <a:off x="5389560" y="289260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386320" y="290520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 flipH="1">
            <a:off x="2387520" y="2209680"/>
            <a:ext cx="4572000" cy="2311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416720" y="156672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x    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431120" y="20178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118360" y="200988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23200" y="2344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0440" y="2336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43640" y="27288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089920" y="272088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351560" y="4230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365960" y="468144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53560" y="467352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58040" y="5008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45280" y="5000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78840" y="5392800"/>
            <a:ext cx="8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24760" y="53848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7960" y="17413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2360" y="21924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09600" y="218448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4440" y="25192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01680" y="2511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880" y="29034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3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81160" y="289548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5880" y="4200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0280" y="46512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17520" y="464328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2360" y="49784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09600" y="4970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2800" y="536256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89080" y="53546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5680" y="419040"/>
            <a:ext cx="39369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Drawing Straight 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46240" y="6159600"/>
            <a:ext cx="52959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Use grid 1 to draw 4 graphs with 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1689120" y="501480"/>
            <a:ext cx="5657760" cy="5650200"/>
            <a:chOff x="1689120" y="501480"/>
            <a:chExt cx="5657760" cy="5650200"/>
          </a:xfrm>
        </p:grpSpPr>
        <p:grpSp>
          <p:nvGrpSpPr>
            <p:cNvPr id="565" name=""/>
            <p:cNvGrpSpPr/>
            <p:nvPr/>
          </p:nvGrpSpPr>
          <p:grpSpPr>
            <a:xfrm>
              <a:off x="1974960" y="977760"/>
              <a:ext cx="4984560" cy="4984920"/>
              <a:chOff x="1974960" y="977760"/>
              <a:chExt cx="4984560" cy="498492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1974960" y="977760"/>
                <a:ext cx="4984560" cy="4984920"/>
                <a:chOff x="1974960" y="977760"/>
                <a:chExt cx="4984560" cy="49849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29718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2092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47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7195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97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2240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4732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2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96864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2181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46408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7135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96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2118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4672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71636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9658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21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4612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71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9718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2092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7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7195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97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240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4732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72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96864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2181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46408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7135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96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2118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4672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71636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9658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21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4612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71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9718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2092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47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7195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97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2240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4732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72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96864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2181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46408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7135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96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2118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4672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71636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9658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21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612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71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718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22092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47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7195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97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2240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4732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72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96864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2181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46408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135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96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2118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4672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71636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9658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21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4612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71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9718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22092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47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7195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97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2240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4732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72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96864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181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46408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135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96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2118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672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71636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9658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21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612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71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9718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22092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47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7195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97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2240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732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72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96864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2181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6408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7135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96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2118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4672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71636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9658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1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4612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71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9718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22092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47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7195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97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2240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4732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72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96864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2181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46408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135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96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2118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4672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1636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9658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21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4612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71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718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22092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47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7195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97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2240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4732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72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96864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2181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46408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7135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96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2118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4672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71636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9658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21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4612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1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9718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22092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7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7195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97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2240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32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2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96864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2181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46408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7135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96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2118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672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71636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9658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21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4612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71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9718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22092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47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7195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97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22240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4732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72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96864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2181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46408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7135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96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2118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4672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71636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9658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21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4612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71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9718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22092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47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7195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97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240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4732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72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96864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2181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46408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7135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96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2118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4672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71636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658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1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4612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71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9718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22092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47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7195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97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2240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4732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72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96864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2181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46408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135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96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2118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4672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71636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9658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21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4612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71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9718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22092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47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7195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7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2240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4732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72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96864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2181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46408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7135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96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2118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4672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71636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9658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21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4612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71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29718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22092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47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7195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97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2240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4732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72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6864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2181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46408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7135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96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2118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4672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71636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9658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21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4612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71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9718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22092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47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7195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97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2240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24732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272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396864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2181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46408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35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96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2118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4672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71636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9658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21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4612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71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9718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22092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47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7195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97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2240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4732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72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96864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2181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408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7135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96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2118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4672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71636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9658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1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4612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71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9718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22092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47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7195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97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2240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24732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72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96864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2181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46408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7135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96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2118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4672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71636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9658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21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612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71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29718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22092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47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7195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97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22240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24732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272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96864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2181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46408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7135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96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2118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4672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71636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9658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21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4612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71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9718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22092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47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7195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97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22240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4732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272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96864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2181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46408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7135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96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2118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4672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71636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658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21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4612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71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9718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22092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47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7195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197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2240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4732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72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96864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2181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46408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7135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96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2118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4672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71636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49658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21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4612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71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4467240" y="977760"/>
                <a:ext cx="0" cy="49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974960" y="3470400"/>
                <a:ext cx="498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4280040" y="3511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72120" y="34290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403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7815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356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642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054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7722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134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48520" y="34480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02320" y="34416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724800" y="344160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68480" y="3448080"/>
              <a:ext cx="3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35240" y="3448080"/>
              <a:ext cx="34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76440" y="3454560"/>
              <a:ext cx="31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36720" y="3448080"/>
              <a:ext cx="36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965320" y="3454560"/>
              <a:ext cx="37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225960" y="344808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473280" y="34480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20960" y="344808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00680" y="345456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689120" y="3441600"/>
              <a:ext cx="38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023240" y="328284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6920" y="5014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81480" y="31622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262400" y="2924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272120" y="2681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2400" y="24289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262400" y="21668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19242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62400" y="16765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67080" y="142884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262400" y="11714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29280" y="919080"/>
              <a:ext cx="37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48000" y="365760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29280" y="3919680"/>
              <a:ext cx="32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19560" y="416232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14880" y="441468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214880" y="4676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4880" y="49100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19560" y="515772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10200" y="5415120"/>
              <a:ext cx="38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24240" y="5657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76720" y="59054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4398840" y="3160800"/>
            <a:ext cx="147600" cy="114120"/>
            <a:chOff x="4398840" y="3160800"/>
            <a:chExt cx="147600" cy="114120"/>
          </a:xfrm>
        </p:grpSpPr>
        <p:sp>
          <p:nvSpPr>
            <p:cNvPr id="1014" name=""/>
            <p:cNvSpPr/>
            <p:nvPr/>
          </p:nvSpPr>
          <p:spPr>
            <a:xfrm>
              <a:off x="4417920" y="316080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4398840" y="317016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5141880" y="2411280"/>
            <a:ext cx="147600" cy="114120"/>
            <a:chOff x="5141880" y="2411280"/>
            <a:chExt cx="147600" cy="114120"/>
          </a:xfrm>
        </p:grpSpPr>
        <p:sp>
          <p:nvSpPr>
            <p:cNvPr id="1017" name=""/>
            <p:cNvSpPr/>
            <p:nvPr/>
          </p:nvSpPr>
          <p:spPr>
            <a:xfrm>
              <a:off x="5160960" y="241128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5141880" y="242064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398760" y="4164120"/>
            <a:ext cx="147600" cy="114120"/>
            <a:chOff x="3398760" y="4164120"/>
            <a:chExt cx="147600" cy="114120"/>
          </a:xfrm>
        </p:grpSpPr>
        <p:sp>
          <p:nvSpPr>
            <p:cNvPr id="1020" name=""/>
            <p:cNvSpPr/>
            <p:nvPr/>
          </p:nvSpPr>
          <p:spPr>
            <a:xfrm>
              <a:off x="3417840" y="416412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3398760" y="417348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 flipV="1">
            <a:off x="2556000" y="1904760"/>
            <a:ext cx="3228840" cy="321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4416480" y="2925720"/>
            <a:ext cx="147600" cy="114120"/>
            <a:chOff x="4416480" y="2925720"/>
            <a:chExt cx="147600" cy="114120"/>
          </a:xfrm>
        </p:grpSpPr>
        <p:sp>
          <p:nvSpPr>
            <p:cNvPr id="1024" name=""/>
            <p:cNvSpPr/>
            <p:nvPr/>
          </p:nvSpPr>
          <p:spPr>
            <a:xfrm>
              <a:off x="4435560" y="292572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4416480" y="293508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645160" y="1668600"/>
            <a:ext cx="147600" cy="114120"/>
            <a:chOff x="5645160" y="1668600"/>
            <a:chExt cx="147600" cy="114120"/>
          </a:xfrm>
        </p:grpSpPr>
        <p:sp>
          <p:nvSpPr>
            <p:cNvPr id="1027" name=""/>
            <p:cNvSpPr/>
            <p:nvPr/>
          </p:nvSpPr>
          <p:spPr>
            <a:xfrm>
              <a:off x="5664240" y="166860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645160" y="167796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3143160" y="4173480"/>
            <a:ext cx="147600" cy="114120"/>
            <a:chOff x="3143160" y="4173480"/>
            <a:chExt cx="147600" cy="114120"/>
          </a:xfrm>
        </p:grpSpPr>
        <p:sp>
          <p:nvSpPr>
            <p:cNvPr id="1030" name=""/>
            <p:cNvSpPr/>
            <p:nvPr/>
          </p:nvSpPr>
          <p:spPr>
            <a:xfrm>
              <a:off x="3162240" y="417348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3143160" y="418284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367160" y="2155680"/>
            <a:ext cx="209520" cy="152280"/>
            <a:chOff x="4367160" y="2155680"/>
            <a:chExt cx="209520" cy="152280"/>
          </a:xfrm>
        </p:grpSpPr>
        <p:sp>
          <p:nvSpPr>
            <p:cNvPr id="1033" name=""/>
            <p:cNvSpPr/>
            <p:nvPr/>
          </p:nvSpPr>
          <p:spPr>
            <a:xfrm>
              <a:off x="4413240" y="215568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4367160" y="216828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5129280" y="1397160"/>
            <a:ext cx="209520" cy="152280"/>
            <a:chOff x="5129280" y="1397160"/>
            <a:chExt cx="209520" cy="152280"/>
          </a:xfrm>
        </p:grpSpPr>
        <p:sp>
          <p:nvSpPr>
            <p:cNvPr id="1036" name=""/>
            <p:cNvSpPr/>
            <p:nvPr/>
          </p:nvSpPr>
          <p:spPr>
            <a:xfrm>
              <a:off x="5175360" y="139716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5129280" y="140976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138480" y="3378240"/>
            <a:ext cx="209520" cy="152280"/>
            <a:chOff x="3138480" y="3378240"/>
            <a:chExt cx="209520" cy="152280"/>
          </a:xfrm>
        </p:grpSpPr>
        <p:sp>
          <p:nvSpPr>
            <p:cNvPr id="1039" name=""/>
            <p:cNvSpPr/>
            <p:nvPr/>
          </p:nvSpPr>
          <p:spPr>
            <a:xfrm>
              <a:off x="3184560" y="337824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3138480" y="339084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5389560" y="4146480"/>
            <a:ext cx="146160" cy="145800"/>
            <a:chOff x="5389560" y="4146480"/>
            <a:chExt cx="146160" cy="145800"/>
          </a:xfrm>
        </p:grpSpPr>
        <p:sp>
          <p:nvSpPr>
            <p:cNvPr id="1042" name=""/>
            <p:cNvSpPr/>
            <p:nvPr/>
          </p:nvSpPr>
          <p:spPr>
            <a:xfrm>
              <a:off x="5392800" y="414648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5389560" y="415908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6886440" y="2649600"/>
            <a:ext cx="146160" cy="145800"/>
            <a:chOff x="6886440" y="2649600"/>
            <a:chExt cx="146160" cy="145800"/>
          </a:xfrm>
        </p:grpSpPr>
        <p:sp>
          <p:nvSpPr>
            <p:cNvPr id="1045" name=""/>
            <p:cNvSpPr/>
            <p:nvPr/>
          </p:nvSpPr>
          <p:spPr>
            <a:xfrm>
              <a:off x="6889680" y="264960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886440" y="266220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4386240" y="5149800"/>
            <a:ext cx="146160" cy="145800"/>
            <a:chOff x="4386240" y="5149800"/>
            <a:chExt cx="146160" cy="145800"/>
          </a:xfrm>
        </p:grpSpPr>
        <p:sp>
          <p:nvSpPr>
            <p:cNvPr id="1048" name=""/>
            <p:cNvSpPr/>
            <p:nvPr/>
          </p:nvSpPr>
          <p:spPr>
            <a:xfrm>
              <a:off x="4389480" y="514980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4386240" y="516240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 flipH="1">
            <a:off x="2619000" y="981000"/>
            <a:ext cx="3848040" cy="3857760"/>
          </a:xfrm>
          <a:prstGeom prst="line">
            <a:avLst/>
          </a:prstGeom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2133720" y="981000"/>
            <a:ext cx="3581280" cy="358164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3828600" y="2724120"/>
            <a:ext cx="3133800" cy="3143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86760" y="11318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x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338960" y="368604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y = x +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34800" y="113364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y = x +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920" y="3535200"/>
            <a:ext cx="12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y = x -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416720" y="1566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431120" y="20178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18360" y="200988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423200" y="2344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110440" y="2336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343640" y="27288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089920" y="272088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351560" y="4230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365960" y="468144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053560" y="467352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58040" y="5008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045280" y="5000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78840" y="5392800"/>
            <a:ext cx="8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5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024760" y="53848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22360" y="21924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209600" y="218448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14440" y="25192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01680" y="2511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34880" y="29034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5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238400" y="28814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03280" y="460692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190520" y="459900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20760" y="49338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182600" y="4925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15800" y="531828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147680" y="5280120"/>
            <a:ext cx="6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71600" y="1646280"/>
            <a:ext cx="12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8200" y="412416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"/>
          <p:cNvGrpSpPr/>
          <p:nvPr/>
        </p:nvGrpSpPr>
        <p:grpSpPr>
          <a:xfrm>
            <a:off x="1689120" y="501480"/>
            <a:ext cx="5657760" cy="5650200"/>
            <a:chOff x="1689120" y="501480"/>
            <a:chExt cx="5657760" cy="5650200"/>
          </a:xfrm>
        </p:grpSpPr>
        <p:grpSp>
          <p:nvGrpSpPr>
            <p:cNvPr id="1086" name=""/>
            <p:cNvGrpSpPr/>
            <p:nvPr/>
          </p:nvGrpSpPr>
          <p:grpSpPr>
            <a:xfrm>
              <a:off x="1974960" y="977760"/>
              <a:ext cx="4984560" cy="4984920"/>
              <a:chOff x="1974960" y="977760"/>
              <a:chExt cx="4984560" cy="4984920"/>
            </a:xfrm>
          </p:grpSpPr>
          <p:grpSp>
            <p:nvGrpSpPr>
              <p:cNvPr id="1087" name=""/>
              <p:cNvGrpSpPr/>
              <p:nvPr/>
            </p:nvGrpSpPr>
            <p:grpSpPr>
              <a:xfrm>
                <a:off x="1974960" y="977760"/>
                <a:ext cx="4984560" cy="4984920"/>
                <a:chOff x="1974960" y="977760"/>
                <a:chExt cx="4984560" cy="498492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29718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22092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47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37195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97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2240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24732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72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96864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2181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46408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7135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596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62118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72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71636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9658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21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4612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71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9718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22092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47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7195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197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22240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4732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272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396864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2181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46408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7135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96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62118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4672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71636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9658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21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4612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71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9718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22092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47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7195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97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22240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24732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272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396864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181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46408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7135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96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2118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4672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71636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9658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521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64612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71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9718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22092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47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7195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197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2240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24732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272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96864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181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46408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7135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596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62118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4672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71636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9658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21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612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71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9718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22092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47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195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97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240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4732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72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396864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2181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546408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7135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596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62118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4672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71636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9658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521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64612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671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9718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22092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47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7195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97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2240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4732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72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96864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2181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46408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7135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596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62118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4672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471636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49658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21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64612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71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9718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22092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47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7195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97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240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4732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72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96864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42181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546408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7135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6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62118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44672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471636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49658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521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64612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71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9718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22092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47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7195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97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2240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732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2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396864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2181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546408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7135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6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2118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4672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1636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9658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21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4612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71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9718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22092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47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7195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97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2240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732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72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396864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2181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546408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57135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596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2118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4672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71636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9658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21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64612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671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9718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22092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47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7195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97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2240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4732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72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96864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2181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46408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7135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96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62118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44672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71636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9658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21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671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9718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322092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347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37195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197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2240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4732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72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396864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2181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46408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7135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96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2118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44672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71636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9658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21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4612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71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9718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322092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347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37195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97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2240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732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72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96864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2181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546408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7135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96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2118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4672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71636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9658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21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4612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71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9718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322092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347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37195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97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2240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4732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72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396864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2181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546408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57135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96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2118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4672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71636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9658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21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4612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71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9718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322092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47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37195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97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22240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24732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72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96864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42181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46408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7135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596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62118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44672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471636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9658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21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64612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671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9718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22092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47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7195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97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2240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4732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72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96864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2181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46408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7135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96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62118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4672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71636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9658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21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4612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671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9718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322092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47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7195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197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2240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4732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72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396864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2181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546408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57135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596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62118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4672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71636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9658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21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612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71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29718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322092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347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37195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197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22240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4732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272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396864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42181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46408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7135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96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2118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44672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471636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49658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21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64612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671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9718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322092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47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37195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197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22240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24732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272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396864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42181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546408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57135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96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62118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4672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471636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49658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521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4612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671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29718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322092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347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37195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197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22240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4732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272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396864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42181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546408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57135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596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2118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4672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1636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9658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21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64612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71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9718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322092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47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7195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197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22240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24732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272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96864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2181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546408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57135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596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62118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44672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71636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9658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521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4612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71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8" name=""/>
              <p:cNvSpPr/>
              <p:nvPr/>
            </p:nvSpPr>
            <p:spPr>
              <a:xfrm>
                <a:off x="4467240" y="977760"/>
                <a:ext cx="0" cy="49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974960" y="3470400"/>
                <a:ext cx="498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"/>
            <p:cNvSpPr/>
            <p:nvPr/>
          </p:nvSpPr>
          <p:spPr>
            <a:xfrm>
              <a:off x="4280040" y="3511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72120" y="34290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403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7815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0356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2642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5054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7722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0134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248520" y="34480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502320" y="34416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724800" y="344160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968480" y="3448080"/>
              <a:ext cx="3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235240" y="3448080"/>
              <a:ext cx="34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76440" y="3454560"/>
              <a:ext cx="31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736720" y="3448080"/>
              <a:ext cx="36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965320" y="3454560"/>
              <a:ext cx="37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225960" y="344808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73280" y="34480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720960" y="344808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00680" y="345456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689120" y="3441600"/>
              <a:ext cx="38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023240" y="328284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36920" y="5014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281480" y="31622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262400" y="2924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272120" y="2681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262400" y="24289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262400" y="21668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267080" y="19242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262400" y="16765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267080" y="142884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262400" y="11714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229280" y="919080"/>
              <a:ext cx="37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248000" y="365760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229280" y="3919680"/>
              <a:ext cx="32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219560" y="416232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214880" y="441468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214880" y="4676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214880" y="49100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19560" y="515772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10200" y="5415120"/>
              <a:ext cx="38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224240" y="5657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176720" y="59054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4381560" y="3168720"/>
            <a:ext cx="147600" cy="114120"/>
            <a:chOff x="4381560" y="3168720"/>
            <a:chExt cx="147600" cy="114120"/>
          </a:xfrm>
        </p:grpSpPr>
        <p:sp>
          <p:nvSpPr>
            <p:cNvPr id="1535" name=""/>
            <p:cNvSpPr/>
            <p:nvPr/>
          </p:nvSpPr>
          <p:spPr>
            <a:xfrm>
              <a:off x="4400640" y="316872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4381560" y="317808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5133960" y="1670040"/>
            <a:ext cx="147600" cy="114120"/>
            <a:chOff x="5133960" y="1670040"/>
            <a:chExt cx="147600" cy="114120"/>
          </a:xfrm>
        </p:grpSpPr>
        <p:sp>
          <p:nvSpPr>
            <p:cNvPr id="1538" name=""/>
            <p:cNvSpPr/>
            <p:nvPr/>
          </p:nvSpPr>
          <p:spPr>
            <a:xfrm>
              <a:off x="5153040" y="167004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5133960" y="167940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3394080" y="5160960"/>
            <a:ext cx="147600" cy="114120"/>
            <a:chOff x="3394080" y="5160960"/>
            <a:chExt cx="147600" cy="114120"/>
          </a:xfrm>
        </p:grpSpPr>
        <p:sp>
          <p:nvSpPr>
            <p:cNvPr id="1541" name=""/>
            <p:cNvSpPr/>
            <p:nvPr/>
          </p:nvSpPr>
          <p:spPr>
            <a:xfrm>
              <a:off x="3413160" y="516096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3394080" y="517032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4394160" y="4667400"/>
            <a:ext cx="147600" cy="114120"/>
            <a:chOff x="4394160" y="4667400"/>
            <a:chExt cx="147600" cy="114120"/>
          </a:xfrm>
        </p:grpSpPr>
        <p:sp>
          <p:nvSpPr>
            <p:cNvPr id="1544" name=""/>
            <p:cNvSpPr/>
            <p:nvPr/>
          </p:nvSpPr>
          <p:spPr>
            <a:xfrm>
              <a:off x="4413240" y="466740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4394160" y="467676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5892840" y="1665360"/>
            <a:ext cx="147600" cy="114120"/>
            <a:chOff x="5892840" y="1665360"/>
            <a:chExt cx="147600" cy="114120"/>
          </a:xfrm>
        </p:grpSpPr>
        <p:sp>
          <p:nvSpPr>
            <p:cNvPr id="1547" name=""/>
            <p:cNvSpPr/>
            <p:nvPr/>
          </p:nvSpPr>
          <p:spPr>
            <a:xfrm>
              <a:off x="5911920" y="166536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5892840" y="167472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3898800" y="5681520"/>
            <a:ext cx="147600" cy="114120"/>
            <a:chOff x="3898800" y="5681520"/>
            <a:chExt cx="147600" cy="114120"/>
          </a:xfrm>
        </p:grpSpPr>
        <p:sp>
          <p:nvSpPr>
            <p:cNvPr id="1550" name=""/>
            <p:cNvSpPr/>
            <p:nvPr/>
          </p:nvSpPr>
          <p:spPr>
            <a:xfrm>
              <a:off x="3917880" y="568152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3898800" y="569088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4346640" y="4392720"/>
            <a:ext cx="209520" cy="152280"/>
            <a:chOff x="4346640" y="4392720"/>
            <a:chExt cx="209520" cy="152280"/>
          </a:xfrm>
        </p:grpSpPr>
        <p:sp>
          <p:nvSpPr>
            <p:cNvPr id="1553" name=""/>
            <p:cNvSpPr/>
            <p:nvPr/>
          </p:nvSpPr>
          <p:spPr>
            <a:xfrm>
              <a:off x="4392720" y="439272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4346640" y="440532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5357880" y="1400040"/>
            <a:ext cx="209520" cy="152280"/>
            <a:chOff x="5357880" y="1400040"/>
            <a:chExt cx="209520" cy="152280"/>
          </a:xfrm>
        </p:grpSpPr>
        <p:sp>
          <p:nvSpPr>
            <p:cNvPr id="1556" name=""/>
            <p:cNvSpPr/>
            <p:nvPr/>
          </p:nvSpPr>
          <p:spPr>
            <a:xfrm>
              <a:off x="5403960" y="140004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5357880" y="141264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3890880" y="5886360"/>
            <a:ext cx="209520" cy="152280"/>
            <a:chOff x="3890880" y="5886360"/>
            <a:chExt cx="209520" cy="152280"/>
          </a:xfrm>
        </p:grpSpPr>
        <p:sp>
          <p:nvSpPr>
            <p:cNvPr id="1559" name=""/>
            <p:cNvSpPr/>
            <p:nvPr/>
          </p:nvSpPr>
          <p:spPr>
            <a:xfrm>
              <a:off x="3936960" y="588636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3890880" y="589896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4371840" y="2168640"/>
            <a:ext cx="146160" cy="145800"/>
            <a:chOff x="4371840" y="2168640"/>
            <a:chExt cx="146160" cy="145800"/>
          </a:xfrm>
        </p:grpSpPr>
        <p:sp>
          <p:nvSpPr>
            <p:cNvPr id="1562" name=""/>
            <p:cNvSpPr/>
            <p:nvPr/>
          </p:nvSpPr>
          <p:spPr>
            <a:xfrm>
              <a:off x="4375080" y="216864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4371840" y="218124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6369120" y="1173240"/>
            <a:ext cx="146160" cy="145800"/>
            <a:chOff x="6369120" y="1173240"/>
            <a:chExt cx="146160" cy="145800"/>
          </a:xfrm>
        </p:grpSpPr>
        <p:sp>
          <p:nvSpPr>
            <p:cNvPr id="1565" name=""/>
            <p:cNvSpPr/>
            <p:nvPr/>
          </p:nvSpPr>
          <p:spPr>
            <a:xfrm>
              <a:off x="6372360" y="117324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6369120" y="118584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2401920" y="3159000"/>
            <a:ext cx="146160" cy="145800"/>
            <a:chOff x="2401920" y="3159000"/>
            <a:chExt cx="146160" cy="145800"/>
          </a:xfrm>
        </p:grpSpPr>
        <p:sp>
          <p:nvSpPr>
            <p:cNvPr id="1568" name=""/>
            <p:cNvSpPr/>
            <p:nvPr/>
          </p:nvSpPr>
          <p:spPr>
            <a:xfrm>
              <a:off x="2405160" y="315900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401920" y="317160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 flipH="1">
            <a:off x="3376440" y="1219320"/>
            <a:ext cx="2090880" cy="417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3835080" y="1231920"/>
            <a:ext cx="2374920" cy="4775040"/>
          </a:xfrm>
          <a:prstGeom prst="line">
            <a:avLst/>
          </a:prstGeom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3886200" y="1041480"/>
            <a:ext cx="1727280" cy="523224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1929960" y="990720"/>
            <a:ext cx="4978440" cy="2514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286760" y="11318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2x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338960" y="36860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y = 2x -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34800" y="1133640"/>
            <a:ext cx="14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y = 3x –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0" y="357336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y = ½x +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416720" y="156672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x    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431120" y="20178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8118360" y="200988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423200" y="2344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110440" y="2336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343640" y="27288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089920" y="272088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351560" y="4230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365960" y="468144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8053560" y="467352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358040" y="5008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8045280" y="5000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278840" y="5392800"/>
            <a:ext cx="8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2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8024760" y="53848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22360" y="21924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209600" y="218448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14440" y="25192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201680" y="2511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34880" y="29034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2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238400" y="28814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03280" y="460692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90520" y="459900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20760" y="49338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182600" y="4925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5800" y="531828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8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219320" y="5280120"/>
            <a:ext cx="6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71600" y="1646280"/>
            <a:ext cx="12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38200" y="412416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x    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6" name=""/>
          <p:cNvGrpSpPr/>
          <p:nvPr/>
        </p:nvGrpSpPr>
        <p:grpSpPr>
          <a:xfrm>
            <a:off x="1689120" y="501480"/>
            <a:ext cx="5657760" cy="5650200"/>
            <a:chOff x="1689120" y="501480"/>
            <a:chExt cx="5657760" cy="5650200"/>
          </a:xfrm>
        </p:grpSpPr>
        <p:grpSp>
          <p:nvGrpSpPr>
            <p:cNvPr id="1607" name=""/>
            <p:cNvGrpSpPr/>
            <p:nvPr/>
          </p:nvGrpSpPr>
          <p:grpSpPr>
            <a:xfrm>
              <a:off x="1974960" y="977760"/>
              <a:ext cx="4984560" cy="4984920"/>
              <a:chOff x="1974960" y="977760"/>
              <a:chExt cx="4984560" cy="4984920"/>
            </a:xfrm>
          </p:grpSpPr>
          <p:grpSp>
            <p:nvGrpSpPr>
              <p:cNvPr id="1608" name=""/>
              <p:cNvGrpSpPr/>
              <p:nvPr/>
            </p:nvGrpSpPr>
            <p:grpSpPr>
              <a:xfrm>
                <a:off x="1974960" y="977760"/>
                <a:ext cx="4984560" cy="4984920"/>
                <a:chOff x="1974960" y="977760"/>
                <a:chExt cx="4984560" cy="49849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29718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22092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47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7195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197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22240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24732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272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96864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421812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546408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57135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59626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621180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44672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4716360" y="9777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496584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521496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646128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6710400" y="9777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29718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22092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47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7195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197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22240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24732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272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396864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421812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46408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57135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59626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621180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44672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4716360" y="12268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496584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521496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646128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6710400" y="12268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29718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22092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47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7195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97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22240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24732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272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396864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421812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546408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7135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9626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621180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44672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4716360" y="147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496584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521496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646128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6710400" y="147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29718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322092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347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7195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197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22240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24732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272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96864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421812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546408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35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9626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621180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4672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4716360" y="17254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496584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521496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646128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6710400" y="17254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9718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22092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47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7195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197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2240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24732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272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396864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21812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46408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57135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59626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621180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4672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716360" y="19746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96584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521496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646128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710400" y="19746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29718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322092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347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37195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197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22240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4732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72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96864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21812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546408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57135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9626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621180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44672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4716360" y="222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496584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521496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646128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6710400" y="222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9718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322092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47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37195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197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22240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4732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272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96864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421812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546408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7135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9626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621180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44672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4716360" y="24732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496584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521496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646128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6710400" y="24732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29718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322092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347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7195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197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2240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4732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72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396864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421812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46408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57135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59626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621180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44672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4716360" y="272232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496584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521496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646128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6710400" y="272232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29718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322092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347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37195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197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22240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24732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272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396864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21812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46408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57135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59626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21180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4672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716360" y="297180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496584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521496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646128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6710400" y="297180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29718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322092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347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37195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97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22240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24732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272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396864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421812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46408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57135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59626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621180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44672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716360" y="32209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496584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21496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646128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6710400" y="32209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29718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322092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347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37195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97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22240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24732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272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396864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421812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546408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57135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59626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621180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44672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4716360" y="347004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496584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21496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46128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6710400" y="347004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29718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22092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347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37195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97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22240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24732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272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396864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421812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46408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7135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9626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621180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44672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4716360" y="371952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96584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21496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646128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6710400" y="371952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29718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322092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347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7195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97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22240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24732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272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396864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421812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546408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7135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9626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621180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44672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4716360" y="39686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496584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521496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646128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6710400" y="39686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9718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322092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347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37195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197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22240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24732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2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396864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421812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46408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57135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59626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621180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672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716360" y="421776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96584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521496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646128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6710400" y="421776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29718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322092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347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7195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97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22240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24732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272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396864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21812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546408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57135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59626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621180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44672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4716360" y="446724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496584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21496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46128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6710400" y="446724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29718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322092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347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7195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97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22240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24732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272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396864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21812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546408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57135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9626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621180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44672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716360" y="47163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496584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521496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646128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6710400" y="47163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29718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322092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347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37195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97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22240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24732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272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396864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21812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546408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57135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59626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21180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4672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6360" y="496548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96584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521496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46128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710400" y="496548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29718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322092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347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37195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97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22240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24732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272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396864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21812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546408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57135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59626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621180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4672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716360" y="521496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96584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521496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646128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6710400" y="521496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29718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22092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47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37195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197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22240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24732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272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396864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21812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546408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57135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59626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621180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4672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716360" y="5464080"/>
                  <a:ext cx="24948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496584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521496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646128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6710400" y="5464080"/>
                  <a:ext cx="249120" cy="24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9718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22092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7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7195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197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2240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4732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72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396864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1812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546408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7135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59626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621180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4672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716360" y="5713200"/>
                  <a:ext cx="24948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496584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1496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646128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6710400" y="5713200"/>
                  <a:ext cx="249120" cy="24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9" name=""/>
              <p:cNvSpPr/>
              <p:nvPr/>
            </p:nvSpPr>
            <p:spPr>
              <a:xfrm>
                <a:off x="4467240" y="977760"/>
                <a:ext cx="0" cy="49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74960" y="3470400"/>
                <a:ext cx="498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4280040" y="3511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272120" y="34290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5403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78152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0356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2642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50548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7722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013440" y="344160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248520" y="34480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502320" y="34416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724800" y="344160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968480" y="3448080"/>
              <a:ext cx="3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235240" y="3448080"/>
              <a:ext cx="34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476440" y="3454560"/>
              <a:ext cx="31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736720" y="3448080"/>
              <a:ext cx="36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965320" y="3454560"/>
              <a:ext cx="37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225960" y="3448080"/>
              <a:ext cx="36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473280" y="34480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720960" y="344808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000680" y="3454560"/>
              <a:ext cx="36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689120" y="3441600"/>
              <a:ext cx="38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023240" y="328284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336920" y="5014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281480" y="31622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262400" y="2924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272120" y="268128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262400" y="24289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262400" y="21668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267080" y="192420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262400" y="167652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267080" y="1428840"/>
              <a:ext cx="29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262400" y="1171440"/>
              <a:ext cx="29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229280" y="919080"/>
              <a:ext cx="37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248000" y="365760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229280" y="3919680"/>
              <a:ext cx="32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219560" y="4162320"/>
              <a:ext cx="32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214880" y="441468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214880" y="4676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214880" y="49100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219560" y="515772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10200" y="5415120"/>
              <a:ext cx="38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224240" y="56577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176720" y="590544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4395960" y="3414600"/>
            <a:ext cx="147600" cy="114120"/>
            <a:chOff x="4395960" y="3414600"/>
            <a:chExt cx="147600" cy="114120"/>
          </a:xfrm>
        </p:grpSpPr>
        <p:sp>
          <p:nvSpPr>
            <p:cNvPr id="2056" name=""/>
            <p:cNvSpPr/>
            <p:nvPr/>
          </p:nvSpPr>
          <p:spPr>
            <a:xfrm>
              <a:off x="4415040" y="341460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4395960" y="342396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5661000" y="4659480"/>
            <a:ext cx="147600" cy="114120"/>
            <a:chOff x="5661000" y="4659480"/>
            <a:chExt cx="147600" cy="114120"/>
          </a:xfrm>
        </p:grpSpPr>
        <p:sp>
          <p:nvSpPr>
            <p:cNvPr id="2059" name=""/>
            <p:cNvSpPr/>
            <p:nvPr/>
          </p:nvSpPr>
          <p:spPr>
            <a:xfrm>
              <a:off x="5680080" y="465948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5661000" y="466884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2887560" y="1928880"/>
            <a:ext cx="147600" cy="114120"/>
            <a:chOff x="2887560" y="1928880"/>
            <a:chExt cx="147600" cy="114120"/>
          </a:xfrm>
        </p:grpSpPr>
        <p:sp>
          <p:nvSpPr>
            <p:cNvPr id="2062" name=""/>
            <p:cNvSpPr/>
            <p:nvPr/>
          </p:nvSpPr>
          <p:spPr>
            <a:xfrm>
              <a:off x="2906640" y="1928880"/>
              <a:ext cx="95400" cy="114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V="1">
              <a:off x="2887560" y="1938240"/>
              <a:ext cx="147600" cy="100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4" name=""/>
          <p:cNvGrpSpPr/>
          <p:nvPr/>
        </p:nvGrpSpPr>
        <p:grpSpPr>
          <a:xfrm>
            <a:off x="4392720" y="3408480"/>
            <a:ext cx="147600" cy="114120"/>
            <a:chOff x="4392720" y="3408480"/>
            <a:chExt cx="147600" cy="114120"/>
          </a:xfrm>
        </p:grpSpPr>
        <p:sp>
          <p:nvSpPr>
            <p:cNvPr id="2065" name=""/>
            <p:cNvSpPr/>
            <p:nvPr/>
          </p:nvSpPr>
          <p:spPr>
            <a:xfrm>
              <a:off x="4411800" y="340848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4392720" y="341784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5140440" y="4897440"/>
            <a:ext cx="147600" cy="114120"/>
            <a:chOff x="5140440" y="4897440"/>
            <a:chExt cx="147600" cy="114120"/>
          </a:xfrm>
        </p:grpSpPr>
        <p:sp>
          <p:nvSpPr>
            <p:cNvPr id="2068" name=""/>
            <p:cNvSpPr/>
            <p:nvPr/>
          </p:nvSpPr>
          <p:spPr>
            <a:xfrm>
              <a:off x="5159520" y="489744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5140440" y="490680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3143160" y="925560"/>
            <a:ext cx="147600" cy="114120"/>
            <a:chOff x="3143160" y="925560"/>
            <a:chExt cx="147600" cy="114120"/>
          </a:xfrm>
        </p:grpSpPr>
        <p:sp>
          <p:nvSpPr>
            <p:cNvPr id="2071" name=""/>
            <p:cNvSpPr/>
            <p:nvPr/>
          </p:nvSpPr>
          <p:spPr>
            <a:xfrm>
              <a:off x="3162240" y="925560"/>
              <a:ext cx="95400" cy="11412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V="1">
              <a:off x="3143160" y="934920"/>
              <a:ext cx="147600" cy="1000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4341960" y="2409840"/>
            <a:ext cx="209520" cy="152280"/>
            <a:chOff x="4341960" y="2409840"/>
            <a:chExt cx="209520" cy="152280"/>
          </a:xfrm>
        </p:grpSpPr>
        <p:sp>
          <p:nvSpPr>
            <p:cNvPr id="2074" name=""/>
            <p:cNvSpPr/>
            <p:nvPr/>
          </p:nvSpPr>
          <p:spPr>
            <a:xfrm>
              <a:off x="4388040" y="240984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V="1">
              <a:off x="4341960" y="242244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5376960" y="5407200"/>
            <a:ext cx="209520" cy="152280"/>
            <a:chOff x="5376960" y="5407200"/>
            <a:chExt cx="209520" cy="152280"/>
          </a:xfrm>
        </p:grpSpPr>
        <p:sp>
          <p:nvSpPr>
            <p:cNvPr id="2077" name=""/>
            <p:cNvSpPr/>
            <p:nvPr/>
          </p:nvSpPr>
          <p:spPr>
            <a:xfrm>
              <a:off x="5423040" y="540720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V="1">
              <a:off x="5376960" y="541980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3871800" y="920880"/>
            <a:ext cx="209520" cy="152280"/>
            <a:chOff x="3871800" y="920880"/>
            <a:chExt cx="209520" cy="152280"/>
          </a:xfrm>
        </p:grpSpPr>
        <p:sp>
          <p:nvSpPr>
            <p:cNvPr id="2080" name=""/>
            <p:cNvSpPr/>
            <p:nvPr/>
          </p:nvSpPr>
          <p:spPr>
            <a:xfrm>
              <a:off x="3917880" y="920880"/>
              <a:ext cx="114120" cy="152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3871800" y="933480"/>
              <a:ext cx="209520" cy="138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4389480" y="4140360"/>
            <a:ext cx="146160" cy="145800"/>
            <a:chOff x="4389480" y="4140360"/>
            <a:chExt cx="146160" cy="145800"/>
          </a:xfrm>
        </p:grpSpPr>
        <p:sp>
          <p:nvSpPr>
            <p:cNvPr id="2083" name=""/>
            <p:cNvSpPr/>
            <p:nvPr/>
          </p:nvSpPr>
          <p:spPr>
            <a:xfrm>
              <a:off x="4392720" y="414036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4389480" y="415296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2409840" y="3154320"/>
            <a:ext cx="146160" cy="145800"/>
            <a:chOff x="2409840" y="3154320"/>
            <a:chExt cx="146160" cy="145800"/>
          </a:xfrm>
        </p:grpSpPr>
        <p:sp>
          <p:nvSpPr>
            <p:cNvPr id="2086" name=""/>
            <p:cNvSpPr/>
            <p:nvPr/>
          </p:nvSpPr>
          <p:spPr>
            <a:xfrm>
              <a:off x="2413080" y="315432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2409840" y="316692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6377040" y="5159520"/>
            <a:ext cx="146160" cy="145800"/>
            <a:chOff x="6377040" y="5159520"/>
            <a:chExt cx="146160" cy="145800"/>
          </a:xfrm>
        </p:grpSpPr>
        <p:sp>
          <p:nvSpPr>
            <p:cNvPr id="2089" name=""/>
            <p:cNvSpPr/>
            <p:nvPr/>
          </p:nvSpPr>
          <p:spPr>
            <a:xfrm>
              <a:off x="6380280" y="5159520"/>
              <a:ext cx="139680" cy="1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6377040" y="5172120"/>
              <a:ext cx="146160" cy="13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1" name=""/>
          <p:cNvSpPr/>
          <p:nvPr/>
        </p:nvSpPr>
        <p:spPr>
          <a:xfrm>
            <a:off x="2082960" y="1079640"/>
            <a:ext cx="4533840" cy="45338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219480" y="981000"/>
            <a:ext cx="2523960" cy="5019840"/>
          </a:xfrm>
          <a:prstGeom prst="line">
            <a:avLst/>
          </a:prstGeom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971880" y="981000"/>
            <a:ext cx="1676520" cy="502920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981080" y="2971800"/>
            <a:ext cx="5054760" cy="2552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286760" y="11318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7338960" y="36860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y = -2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63520" y="113364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y = -3x +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35352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y = -½x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7416720" y="1566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7431120" y="20178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8118360" y="200988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423200" y="2344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8110440" y="2336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343640" y="27288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6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8089920" y="272088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351560" y="423072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365960" y="468144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8053560" y="467352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358040" y="50086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8045280" y="5000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7278840" y="5392800"/>
            <a:ext cx="8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5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8024760" y="538488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22360" y="219240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209600" y="2184480"/>
            <a:ext cx="4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14440" y="251928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201680" y="2511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34880" y="290340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2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238400" y="288144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03280" y="4606920"/>
            <a:ext cx="8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90520" y="4599000"/>
            <a:ext cx="4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20760" y="49338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182600" y="4925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15800" y="5318280"/>
            <a:ext cx="8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8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219320" y="5280120"/>
            <a:ext cx="6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71600" y="1646280"/>
            <a:ext cx="12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538200" y="412416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x    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711360" y="420840"/>
            <a:ext cx="6635520" cy="5730840"/>
            <a:chOff x="711360" y="420840"/>
            <a:chExt cx="6635520" cy="5730840"/>
          </a:xfrm>
        </p:grpSpPr>
        <p:grpSp>
          <p:nvGrpSpPr>
            <p:cNvPr id="2128" name=""/>
            <p:cNvGrpSpPr/>
            <p:nvPr/>
          </p:nvGrpSpPr>
          <p:grpSpPr>
            <a:xfrm>
              <a:off x="1689120" y="501480"/>
              <a:ext cx="5657760" cy="5650200"/>
              <a:chOff x="1689120" y="501480"/>
              <a:chExt cx="5657760" cy="5650200"/>
            </a:xfrm>
          </p:grpSpPr>
          <p:grpSp>
            <p:nvGrpSpPr>
              <p:cNvPr id="2129" name=""/>
              <p:cNvGrpSpPr/>
              <p:nvPr/>
            </p:nvGrpSpPr>
            <p:grpSpPr>
              <a:xfrm>
                <a:off x="1974960" y="977760"/>
                <a:ext cx="4984560" cy="4984920"/>
                <a:chOff x="1974960" y="977760"/>
                <a:chExt cx="4984560" cy="4984920"/>
              </a:xfrm>
            </p:grpSpPr>
            <p:grpSp>
              <p:nvGrpSpPr>
                <p:cNvPr id="2130" name=""/>
                <p:cNvGrpSpPr/>
                <p:nvPr/>
              </p:nvGrpSpPr>
              <p:grpSpPr>
                <a:xfrm>
                  <a:off x="1974960" y="977760"/>
                  <a:ext cx="4984560" cy="4984920"/>
                  <a:chOff x="1974960" y="977760"/>
                  <a:chExt cx="4984560" cy="4984920"/>
                </a:xfrm>
              </p:grpSpPr>
              <p:sp>
                <p:nvSpPr>
                  <p:cNvPr id="2131" name=""/>
                  <p:cNvSpPr/>
                  <p:nvPr/>
                </p:nvSpPr>
                <p:spPr>
                  <a:xfrm>
                    <a:off x="297180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322092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>
                    <a:off x="347040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371952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>
                    <a:off x="197496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222408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247320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272268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396864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421812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546408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571356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596268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621180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446724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4716360" y="9777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496584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521496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646128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6710400" y="9777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297180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322092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347040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371952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197496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222408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247320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272268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396864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421812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546408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571356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596268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621180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446724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>
                    <a:off x="4716360" y="12268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496584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>
                    <a:off x="521496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646128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6710400" y="12268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297180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322092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347040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371952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197496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222408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247320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272268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>
                    <a:off x="396864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>
                    <a:off x="421812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546408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571356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596268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621180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446724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4716360" y="147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496584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>
                    <a:off x="521496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646128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0" name=""/>
                  <p:cNvSpPr/>
                  <p:nvPr/>
                </p:nvSpPr>
                <p:spPr>
                  <a:xfrm>
                    <a:off x="6710400" y="147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297180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322092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347040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371952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>
                    <a:off x="197496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222408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247320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272268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396864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421812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546408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571356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596268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621180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446724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4716360" y="17254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496584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521496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646128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6710400" y="17254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297180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322092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347040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>
                    <a:off x="371952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197496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222408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247320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272268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396864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421812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546408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571356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596268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621180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446724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4716360" y="19746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496584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521496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646128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6710400" y="19746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297180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322092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347040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371952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197496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222408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247320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272268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396864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421812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546408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571356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596268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621180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446724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4716360" y="222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496584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521496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646128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6710400" y="222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297180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322092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347040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371952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197496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222408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247320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272268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396864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421812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546408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571356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596268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621180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446724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4716360" y="24732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496584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521496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646128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6710400" y="24732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297180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322092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347040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371952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197496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222408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247320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272268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396864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421812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546408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571356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596268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621180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446724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4716360" y="272232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496584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521496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646128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6710400" y="272232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297180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322092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>
                    <a:off x="347040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371952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197496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222408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>
                    <a:off x="247320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272268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396864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421812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546408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571356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596268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621180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446724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4716360" y="297180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496584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521496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646128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6710400" y="297180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297180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322092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347040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371952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197496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222408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247320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272268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396864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421812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546408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571356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596268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621180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446724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4716360" y="32209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496584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521496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646128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6710400" y="32209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297180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322092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347040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371952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197496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222408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247320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272268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396864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421812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546408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571356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596268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621180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446724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4716360" y="347004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496584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521496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>
                    <a:off x="646128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>
                    <a:off x="6710400" y="347004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297180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322092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>
                    <a:off x="347040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371952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197496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222408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247320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272268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396864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421812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546408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571356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596268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621180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446724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4716360" y="371952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496584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521496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646128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>
                    <a:off x="6710400" y="371952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1" name=""/>
                  <p:cNvSpPr/>
                  <p:nvPr/>
                </p:nvSpPr>
                <p:spPr>
                  <a:xfrm>
                    <a:off x="297180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>
                    <a:off x="322092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>
                    <a:off x="347040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371952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>
                    <a:off x="197496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>
                    <a:off x="222408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>
                    <a:off x="247320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>
                    <a:off x="272268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>
                    <a:off x="396864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>
                    <a:off x="421812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546408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571356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>
                    <a:off x="596268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621180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>
                    <a:off x="446724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>
                    <a:off x="4716360" y="39686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>
                    <a:off x="496584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>
                    <a:off x="521496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>
                    <a:off x="646128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>
                    <a:off x="6710400" y="39686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>
                    <a:off x="297180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322092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347040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4" name=""/>
                  <p:cNvSpPr/>
                  <p:nvPr/>
                </p:nvSpPr>
                <p:spPr>
                  <a:xfrm>
                    <a:off x="371952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197496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222408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247320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272268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>
                    <a:off x="396864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>
                    <a:off x="421812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546408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571356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596268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621180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446724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>
                    <a:off x="4716360" y="421776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496584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521496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646128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6710400" y="421776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>
                    <a:off x="297180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322092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"/>
                  <p:cNvSpPr/>
                  <p:nvPr/>
                </p:nvSpPr>
                <p:spPr>
                  <a:xfrm>
                    <a:off x="347040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>
                    <a:off x="371952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5" name=""/>
                  <p:cNvSpPr/>
                  <p:nvPr/>
                </p:nvSpPr>
                <p:spPr>
                  <a:xfrm>
                    <a:off x="197496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"/>
                  <p:cNvSpPr/>
                  <p:nvPr/>
                </p:nvSpPr>
                <p:spPr>
                  <a:xfrm>
                    <a:off x="222408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>
                    <a:off x="247320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>
                    <a:off x="272268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9" name=""/>
                  <p:cNvSpPr/>
                  <p:nvPr/>
                </p:nvSpPr>
                <p:spPr>
                  <a:xfrm>
                    <a:off x="396864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>
                    <a:off x="421812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546408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571356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>
                    <a:off x="596268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>
                    <a:off x="621180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446724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4716360" y="446724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496584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521496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646128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0" name=""/>
                  <p:cNvSpPr/>
                  <p:nvPr/>
                </p:nvSpPr>
                <p:spPr>
                  <a:xfrm>
                    <a:off x="6710400" y="446724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>
                    <a:off x="297180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>
                    <a:off x="322092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3" name=""/>
                  <p:cNvSpPr/>
                  <p:nvPr/>
                </p:nvSpPr>
                <p:spPr>
                  <a:xfrm>
                    <a:off x="347040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>
                    <a:off x="371952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>
                    <a:off x="197496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>
                    <a:off x="222408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>
                    <a:off x="247320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>
                    <a:off x="272268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9" name=""/>
                  <p:cNvSpPr/>
                  <p:nvPr/>
                </p:nvSpPr>
                <p:spPr>
                  <a:xfrm>
                    <a:off x="396864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>
                    <a:off x="421812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>
                    <a:off x="546408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571356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596268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621180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>
                    <a:off x="446724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>
                    <a:off x="4716360" y="47163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496584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521496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646128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6710400" y="47163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297180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322092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347040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>
                    <a:off x="371952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>
                    <a:off x="197496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222408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247320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272268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396864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421812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546408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571356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596268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621180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446724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4716360" y="496548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496584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521496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646128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6710400" y="496548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297180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322092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347040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371952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197496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222408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247320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272268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396864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421812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546408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571356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596268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621180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446724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4716360" y="521496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496584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521496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646128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>
                    <a:off x="6710400" y="521496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>
                    <a:off x="297180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322092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347040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371952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197496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222408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247320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272268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396864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421812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1" name=""/>
                  <p:cNvSpPr/>
                  <p:nvPr/>
                </p:nvSpPr>
                <p:spPr>
                  <a:xfrm>
                    <a:off x="546408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571356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596268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621180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>
                    <a:off x="446724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4716360" y="5464080"/>
                    <a:ext cx="24948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496584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521496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646128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6710400" y="5464080"/>
                    <a:ext cx="249120" cy="249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>
                    <a:off x="297180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322092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347040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371952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197496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>
                    <a:off x="222408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>
                    <a:off x="247320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>
                    <a:off x="272268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396864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421812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>
                    <a:off x="546408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>
                    <a:off x="571356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596268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621180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446724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4716360" y="5713200"/>
                    <a:ext cx="24948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496584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521496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646128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6710400" y="5713200"/>
                    <a:ext cx="249120" cy="249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1" name=""/>
                <p:cNvSpPr/>
                <p:nvPr/>
              </p:nvSpPr>
              <p:spPr>
                <a:xfrm>
                  <a:off x="4467240" y="977760"/>
                  <a:ext cx="0" cy="498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1974960" y="3470400"/>
                  <a:ext cx="498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3" name=""/>
              <p:cNvSpPr/>
              <p:nvPr/>
            </p:nvSpPr>
            <p:spPr>
              <a:xfrm>
                <a:off x="4280040" y="35114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4272120" y="34290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454032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78152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03568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26428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50548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77224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013440" y="344160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248520" y="344808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502320" y="3441600"/>
                <a:ext cx="29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724800" y="3441600"/>
                <a:ext cx="36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968480" y="3448080"/>
                <a:ext cx="35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2235240" y="3448080"/>
                <a:ext cx="34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2476440" y="3454560"/>
                <a:ext cx="31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2736720" y="3448080"/>
                <a:ext cx="36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2965320" y="3454560"/>
                <a:ext cx="37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225960" y="3448080"/>
                <a:ext cx="36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473280" y="3448080"/>
                <a:ext cx="38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720960" y="3448080"/>
                <a:ext cx="368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4000680" y="3454560"/>
                <a:ext cx="368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689120" y="3441600"/>
                <a:ext cx="387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023240" y="3282840"/>
                <a:ext cx="32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4336920" y="50148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4281480" y="316224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262400" y="292428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272120" y="268128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262400" y="242892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262400" y="216684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267080" y="1924200"/>
                <a:ext cx="29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262400" y="167652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267080" y="1428840"/>
                <a:ext cx="29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4262400" y="1171440"/>
                <a:ext cx="29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4229280" y="919080"/>
                <a:ext cx="37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4248000" y="3657600"/>
                <a:ext cx="32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4229280" y="3919680"/>
                <a:ext cx="32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4219560" y="4162320"/>
                <a:ext cx="32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214880" y="441468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214880" y="467676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214880" y="49100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219560" y="515772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210200" y="5415120"/>
                <a:ext cx="382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4224240" y="565776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4176720" y="5905440"/>
                <a:ext cx="38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7" name=""/>
            <p:cNvSpPr/>
            <p:nvPr/>
          </p:nvSpPr>
          <p:spPr>
            <a:xfrm>
              <a:off x="711360" y="420840"/>
              <a:ext cx="3365280" cy="368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99"/>
                  </a:solidFill>
                  <a:latin typeface="Comic Sans MS"/>
                </a:rPr>
                <a:t>Lines parallel to the x ax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8" name=""/>
          <p:cNvSpPr/>
          <p:nvPr/>
        </p:nvSpPr>
        <p:spPr>
          <a:xfrm>
            <a:off x="7567560" y="1255680"/>
            <a:ext cx="81144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=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7559640" y="2279520"/>
            <a:ext cx="8110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523280" y="2778120"/>
            <a:ext cx="8110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561440" y="3309840"/>
            <a:ext cx="8110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mic Sans MS"/>
              </a:rPr>
              <a:t>Y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510320" y="3998880"/>
            <a:ext cx="98604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= 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459560" y="5254560"/>
            <a:ext cx="98604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= 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4" name=""/>
          <p:cNvGrpSpPr/>
          <p:nvPr/>
        </p:nvGrpSpPr>
        <p:grpSpPr>
          <a:xfrm>
            <a:off x="1460520" y="1476360"/>
            <a:ext cx="6048360" cy="3990960"/>
            <a:chOff x="1460520" y="1476360"/>
            <a:chExt cx="6048360" cy="3990960"/>
          </a:xfrm>
        </p:grpSpPr>
        <p:sp>
          <p:nvSpPr>
            <p:cNvPr id="2585" name=""/>
            <p:cNvSpPr/>
            <p:nvPr/>
          </p:nvSpPr>
          <p:spPr>
            <a:xfrm>
              <a:off x="1571760" y="1476360"/>
              <a:ext cx="57434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647720" y="2476440"/>
              <a:ext cx="5743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657440" y="2971800"/>
              <a:ext cx="57434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676520" y="4229280"/>
              <a:ext cx="57434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581120" y="5467320"/>
              <a:ext cx="57434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460520" y="3473280"/>
              <a:ext cx="60483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2728800" y="420840"/>
            <a:ext cx="6164280" cy="5773680"/>
            <a:chOff x="2728800" y="420840"/>
            <a:chExt cx="6164280" cy="5773680"/>
          </a:xfrm>
        </p:grpSpPr>
        <p:sp>
          <p:nvSpPr>
            <p:cNvPr id="2592" name=""/>
            <p:cNvSpPr/>
            <p:nvPr/>
          </p:nvSpPr>
          <p:spPr>
            <a:xfrm>
              <a:off x="5094360" y="420840"/>
              <a:ext cx="379872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Comic Sans MS"/>
                </a:rPr>
                <a:t>Lines parallel to the y ax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705720" y="797040"/>
              <a:ext cx="0" cy="5384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713560" y="830160"/>
              <a:ext cx="6120" cy="528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467240" y="809640"/>
              <a:ext cx="0" cy="5384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>
              <a:off x="3462120" y="836640"/>
              <a:ext cx="14040" cy="528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728800" y="838080"/>
              <a:ext cx="0" cy="528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8" name=""/>
          <p:cNvSpPr/>
          <p:nvPr/>
        </p:nvSpPr>
        <p:spPr>
          <a:xfrm>
            <a:off x="6351480" y="6207120"/>
            <a:ext cx="750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x =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22720" y="6257880"/>
            <a:ext cx="750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x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5316480" y="6194520"/>
            <a:ext cx="750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x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3024360" y="6238800"/>
            <a:ext cx="9223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x = -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1969920" y="6243480"/>
            <a:ext cx="9226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x = -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9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3" name=""/>
          <p:cNvGrpSpPr/>
          <p:nvPr/>
        </p:nvGrpSpPr>
        <p:grpSpPr>
          <a:xfrm>
            <a:off x="231840" y="522360"/>
            <a:ext cx="7758000" cy="5915160"/>
            <a:chOff x="231840" y="522360"/>
            <a:chExt cx="7758000" cy="5915160"/>
          </a:xfrm>
        </p:grpSpPr>
        <p:grpSp>
          <p:nvGrpSpPr>
            <p:cNvPr id="2604" name=""/>
            <p:cNvGrpSpPr/>
            <p:nvPr/>
          </p:nvGrpSpPr>
          <p:grpSpPr>
            <a:xfrm>
              <a:off x="231840" y="522360"/>
              <a:ext cx="7758000" cy="5915160"/>
              <a:chOff x="231840" y="522360"/>
              <a:chExt cx="7758000" cy="5915160"/>
            </a:xfrm>
          </p:grpSpPr>
          <p:grpSp>
            <p:nvGrpSpPr>
              <p:cNvPr id="2605" name=""/>
              <p:cNvGrpSpPr/>
              <p:nvPr/>
            </p:nvGrpSpPr>
            <p:grpSpPr>
              <a:xfrm>
                <a:off x="2332080" y="787320"/>
                <a:ext cx="5657760" cy="5650200"/>
                <a:chOff x="2332080" y="787320"/>
                <a:chExt cx="5657760" cy="5650200"/>
              </a:xfrm>
            </p:grpSpPr>
            <p:grpSp>
              <p:nvGrpSpPr>
                <p:cNvPr id="2606" name=""/>
                <p:cNvGrpSpPr/>
                <p:nvPr/>
              </p:nvGrpSpPr>
              <p:grpSpPr>
                <a:xfrm>
                  <a:off x="2617920" y="1263600"/>
                  <a:ext cx="4984560" cy="4984920"/>
                  <a:chOff x="2617920" y="1263600"/>
                  <a:chExt cx="4984560" cy="4984920"/>
                </a:xfrm>
              </p:grpSpPr>
              <p:grpSp>
                <p:nvGrpSpPr>
                  <p:cNvPr id="2607" name=""/>
                  <p:cNvGrpSpPr/>
                  <p:nvPr/>
                </p:nvGrpSpPr>
                <p:grpSpPr>
                  <a:xfrm>
                    <a:off x="2617920" y="1263600"/>
                    <a:ext cx="4984560" cy="4984920"/>
                    <a:chOff x="2617920" y="1263600"/>
                    <a:chExt cx="4984560" cy="4984920"/>
                  </a:xfrm>
                </p:grpSpPr>
                <p:sp>
                  <p:nvSpPr>
                    <p:cNvPr id="2608" name=""/>
                    <p:cNvSpPr/>
                    <p:nvPr/>
                  </p:nvSpPr>
                  <p:spPr>
                    <a:xfrm>
                      <a:off x="361476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9" name=""/>
                    <p:cNvSpPr/>
                    <p:nvPr/>
                  </p:nvSpPr>
                  <p:spPr>
                    <a:xfrm>
                      <a:off x="386388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0" name=""/>
                    <p:cNvSpPr/>
                    <p:nvPr/>
                  </p:nvSpPr>
                  <p:spPr>
                    <a:xfrm>
                      <a:off x="411336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1" name=""/>
                    <p:cNvSpPr/>
                    <p:nvPr/>
                  </p:nvSpPr>
                  <p:spPr>
                    <a:xfrm>
                      <a:off x="436248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>
                      <a:off x="261792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3" name=""/>
                    <p:cNvSpPr/>
                    <p:nvPr/>
                  </p:nvSpPr>
                  <p:spPr>
                    <a:xfrm>
                      <a:off x="286704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4" name=""/>
                    <p:cNvSpPr/>
                    <p:nvPr/>
                  </p:nvSpPr>
                  <p:spPr>
                    <a:xfrm>
                      <a:off x="311616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5" name=""/>
                    <p:cNvSpPr/>
                    <p:nvPr/>
                  </p:nvSpPr>
                  <p:spPr>
                    <a:xfrm>
                      <a:off x="336564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6" name=""/>
                    <p:cNvSpPr/>
                    <p:nvPr/>
                  </p:nvSpPr>
                  <p:spPr>
                    <a:xfrm>
                      <a:off x="461160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7" name=""/>
                    <p:cNvSpPr/>
                    <p:nvPr/>
                  </p:nvSpPr>
                  <p:spPr>
                    <a:xfrm>
                      <a:off x="486108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8" name=""/>
                    <p:cNvSpPr/>
                    <p:nvPr/>
                  </p:nvSpPr>
                  <p:spPr>
                    <a:xfrm>
                      <a:off x="610704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9" name=""/>
                    <p:cNvSpPr/>
                    <p:nvPr/>
                  </p:nvSpPr>
                  <p:spPr>
                    <a:xfrm>
                      <a:off x="635652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>
                      <a:off x="660564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1" name=""/>
                    <p:cNvSpPr/>
                    <p:nvPr/>
                  </p:nvSpPr>
                  <p:spPr>
                    <a:xfrm>
                      <a:off x="685476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2" name=""/>
                    <p:cNvSpPr/>
                    <p:nvPr/>
                  </p:nvSpPr>
                  <p:spPr>
                    <a:xfrm>
                      <a:off x="511020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>
                      <a:off x="5359320" y="12636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4" name=""/>
                    <p:cNvSpPr/>
                    <p:nvPr/>
                  </p:nvSpPr>
                  <p:spPr>
                    <a:xfrm>
                      <a:off x="560880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5" name=""/>
                    <p:cNvSpPr/>
                    <p:nvPr/>
                  </p:nvSpPr>
                  <p:spPr>
                    <a:xfrm>
                      <a:off x="585792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>
                      <a:off x="710424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7" name=""/>
                    <p:cNvSpPr/>
                    <p:nvPr/>
                  </p:nvSpPr>
                  <p:spPr>
                    <a:xfrm>
                      <a:off x="7353360" y="12636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8" name=""/>
                    <p:cNvSpPr/>
                    <p:nvPr/>
                  </p:nvSpPr>
                  <p:spPr>
                    <a:xfrm>
                      <a:off x="361476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>
                      <a:off x="386388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0" name=""/>
                    <p:cNvSpPr/>
                    <p:nvPr/>
                  </p:nvSpPr>
                  <p:spPr>
                    <a:xfrm>
                      <a:off x="411336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1" name=""/>
                    <p:cNvSpPr/>
                    <p:nvPr/>
                  </p:nvSpPr>
                  <p:spPr>
                    <a:xfrm>
                      <a:off x="436248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>
                      <a:off x="261792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3" name=""/>
                    <p:cNvSpPr/>
                    <p:nvPr/>
                  </p:nvSpPr>
                  <p:spPr>
                    <a:xfrm>
                      <a:off x="286704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4" name=""/>
                    <p:cNvSpPr/>
                    <p:nvPr/>
                  </p:nvSpPr>
                  <p:spPr>
                    <a:xfrm>
                      <a:off x="311616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>
                      <a:off x="336564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6" name=""/>
                    <p:cNvSpPr/>
                    <p:nvPr/>
                  </p:nvSpPr>
                  <p:spPr>
                    <a:xfrm>
                      <a:off x="461160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7" name=""/>
                    <p:cNvSpPr/>
                    <p:nvPr/>
                  </p:nvSpPr>
                  <p:spPr>
                    <a:xfrm>
                      <a:off x="486108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>
                      <a:off x="610704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9" name=""/>
                    <p:cNvSpPr/>
                    <p:nvPr/>
                  </p:nvSpPr>
                  <p:spPr>
                    <a:xfrm>
                      <a:off x="635652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0" name=""/>
                    <p:cNvSpPr/>
                    <p:nvPr/>
                  </p:nvSpPr>
                  <p:spPr>
                    <a:xfrm>
                      <a:off x="660564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>
                      <a:off x="685476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2" name=""/>
                    <p:cNvSpPr/>
                    <p:nvPr/>
                  </p:nvSpPr>
                  <p:spPr>
                    <a:xfrm>
                      <a:off x="511020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3" name=""/>
                    <p:cNvSpPr/>
                    <p:nvPr/>
                  </p:nvSpPr>
                  <p:spPr>
                    <a:xfrm>
                      <a:off x="5359320" y="15127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>
                      <a:off x="560880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5" name=""/>
                    <p:cNvSpPr/>
                    <p:nvPr/>
                  </p:nvSpPr>
                  <p:spPr>
                    <a:xfrm>
                      <a:off x="585792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6" name=""/>
                    <p:cNvSpPr/>
                    <p:nvPr/>
                  </p:nvSpPr>
                  <p:spPr>
                    <a:xfrm>
                      <a:off x="710424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>
                      <a:off x="7353360" y="15127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8" name=""/>
                    <p:cNvSpPr/>
                    <p:nvPr/>
                  </p:nvSpPr>
                  <p:spPr>
                    <a:xfrm>
                      <a:off x="361476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9" name=""/>
                    <p:cNvSpPr/>
                    <p:nvPr/>
                  </p:nvSpPr>
                  <p:spPr>
                    <a:xfrm>
                      <a:off x="386388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>
                      <a:off x="411336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1" name=""/>
                    <p:cNvSpPr/>
                    <p:nvPr/>
                  </p:nvSpPr>
                  <p:spPr>
                    <a:xfrm>
                      <a:off x="436248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2" name=""/>
                    <p:cNvSpPr/>
                    <p:nvPr/>
                  </p:nvSpPr>
                  <p:spPr>
                    <a:xfrm>
                      <a:off x="261792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>
                      <a:off x="286704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4" name=""/>
                    <p:cNvSpPr/>
                    <p:nvPr/>
                  </p:nvSpPr>
                  <p:spPr>
                    <a:xfrm>
                      <a:off x="311616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5" name=""/>
                    <p:cNvSpPr/>
                    <p:nvPr/>
                  </p:nvSpPr>
                  <p:spPr>
                    <a:xfrm>
                      <a:off x="336564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6" name=""/>
                    <p:cNvSpPr/>
                    <p:nvPr/>
                  </p:nvSpPr>
                  <p:spPr>
                    <a:xfrm>
                      <a:off x="461160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7" name=""/>
                    <p:cNvSpPr/>
                    <p:nvPr/>
                  </p:nvSpPr>
                  <p:spPr>
                    <a:xfrm>
                      <a:off x="486108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8" name=""/>
                    <p:cNvSpPr/>
                    <p:nvPr/>
                  </p:nvSpPr>
                  <p:spPr>
                    <a:xfrm>
                      <a:off x="610704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9" name=""/>
                    <p:cNvSpPr/>
                    <p:nvPr/>
                  </p:nvSpPr>
                  <p:spPr>
                    <a:xfrm>
                      <a:off x="635652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0" name=""/>
                    <p:cNvSpPr/>
                    <p:nvPr/>
                  </p:nvSpPr>
                  <p:spPr>
                    <a:xfrm>
                      <a:off x="660564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1" name=""/>
                    <p:cNvSpPr/>
                    <p:nvPr/>
                  </p:nvSpPr>
                  <p:spPr>
                    <a:xfrm>
                      <a:off x="685476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2" name=""/>
                    <p:cNvSpPr/>
                    <p:nvPr/>
                  </p:nvSpPr>
                  <p:spPr>
                    <a:xfrm>
                      <a:off x="511020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3" name=""/>
                    <p:cNvSpPr/>
                    <p:nvPr/>
                  </p:nvSpPr>
                  <p:spPr>
                    <a:xfrm>
                      <a:off x="5359320" y="176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4" name=""/>
                    <p:cNvSpPr/>
                    <p:nvPr/>
                  </p:nvSpPr>
                  <p:spPr>
                    <a:xfrm>
                      <a:off x="560880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5" name=""/>
                    <p:cNvSpPr/>
                    <p:nvPr/>
                  </p:nvSpPr>
                  <p:spPr>
                    <a:xfrm>
                      <a:off x="585792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6" name=""/>
                    <p:cNvSpPr/>
                    <p:nvPr/>
                  </p:nvSpPr>
                  <p:spPr>
                    <a:xfrm>
                      <a:off x="710424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>
                      <a:off x="7353360" y="176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8" name=""/>
                    <p:cNvSpPr/>
                    <p:nvPr/>
                  </p:nvSpPr>
                  <p:spPr>
                    <a:xfrm>
                      <a:off x="361476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9" name=""/>
                    <p:cNvSpPr/>
                    <p:nvPr/>
                  </p:nvSpPr>
                  <p:spPr>
                    <a:xfrm>
                      <a:off x="386388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0" name=""/>
                    <p:cNvSpPr/>
                    <p:nvPr/>
                  </p:nvSpPr>
                  <p:spPr>
                    <a:xfrm>
                      <a:off x="411336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1" name=""/>
                    <p:cNvSpPr/>
                    <p:nvPr/>
                  </p:nvSpPr>
                  <p:spPr>
                    <a:xfrm>
                      <a:off x="436248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2" name=""/>
                    <p:cNvSpPr/>
                    <p:nvPr/>
                  </p:nvSpPr>
                  <p:spPr>
                    <a:xfrm>
                      <a:off x="261792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3" name=""/>
                    <p:cNvSpPr/>
                    <p:nvPr/>
                  </p:nvSpPr>
                  <p:spPr>
                    <a:xfrm>
                      <a:off x="286704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4" name=""/>
                    <p:cNvSpPr/>
                    <p:nvPr/>
                  </p:nvSpPr>
                  <p:spPr>
                    <a:xfrm>
                      <a:off x="311616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5" name=""/>
                    <p:cNvSpPr/>
                    <p:nvPr/>
                  </p:nvSpPr>
                  <p:spPr>
                    <a:xfrm>
                      <a:off x="336564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6" name=""/>
                    <p:cNvSpPr/>
                    <p:nvPr/>
                  </p:nvSpPr>
                  <p:spPr>
                    <a:xfrm>
                      <a:off x="461160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7" name=""/>
                    <p:cNvSpPr/>
                    <p:nvPr/>
                  </p:nvSpPr>
                  <p:spPr>
                    <a:xfrm>
                      <a:off x="486108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8" name=""/>
                    <p:cNvSpPr/>
                    <p:nvPr/>
                  </p:nvSpPr>
                  <p:spPr>
                    <a:xfrm>
                      <a:off x="610704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9" name=""/>
                    <p:cNvSpPr/>
                    <p:nvPr/>
                  </p:nvSpPr>
                  <p:spPr>
                    <a:xfrm>
                      <a:off x="635652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0" name=""/>
                    <p:cNvSpPr/>
                    <p:nvPr/>
                  </p:nvSpPr>
                  <p:spPr>
                    <a:xfrm>
                      <a:off x="660564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1" name=""/>
                    <p:cNvSpPr/>
                    <p:nvPr/>
                  </p:nvSpPr>
                  <p:spPr>
                    <a:xfrm>
                      <a:off x="685476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>
                      <a:off x="511020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3" name=""/>
                    <p:cNvSpPr/>
                    <p:nvPr/>
                  </p:nvSpPr>
                  <p:spPr>
                    <a:xfrm>
                      <a:off x="5359320" y="20113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4" name=""/>
                    <p:cNvSpPr/>
                    <p:nvPr/>
                  </p:nvSpPr>
                  <p:spPr>
                    <a:xfrm>
                      <a:off x="560880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5" name=""/>
                    <p:cNvSpPr/>
                    <p:nvPr/>
                  </p:nvSpPr>
                  <p:spPr>
                    <a:xfrm>
                      <a:off x="585792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6" name=""/>
                    <p:cNvSpPr/>
                    <p:nvPr/>
                  </p:nvSpPr>
                  <p:spPr>
                    <a:xfrm>
                      <a:off x="710424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7" name=""/>
                    <p:cNvSpPr/>
                    <p:nvPr/>
                  </p:nvSpPr>
                  <p:spPr>
                    <a:xfrm>
                      <a:off x="7353360" y="20113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8" name=""/>
                    <p:cNvSpPr/>
                    <p:nvPr/>
                  </p:nvSpPr>
                  <p:spPr>
                    <a:xfrm>
                      <a:off x="361476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9" name=""/>
                    <p:cNvSpPr/>
                    <p:nvPr/>
                  </p:nvSpPr>
                  <p:spPr>
                    <a:xfrm>
                      <a:off x="386388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0" name=""/>
                    <p:cNvSpPr/>
                    <p:nvPr/>
                  </p:nvSpPr>
                  <p:spPr>
                    <a:xfrm>
                      <a:off x="411336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1" name=""/>
                    <p:cNvSpPr/>
                    <p:nvPr/>
                  </p:nvSpPr>
                  <p:spPr>
                    <a:xfrm>
                      <a:off x="436248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2" name=""/>
                    <p:cNvSpPr/>
                    <p:nvPr/>
                  </p:nvSpPr>
                  <p:spPr>
                    <a:xfrm>
                      <a:off x="261792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3" name=""/>
                    <p:cNvSpPr/>
                    <p:nvPr/>
                  </p:nvSpPr>
                  <p:spPr>
                    <a:xfrm>
                      <a:off x="286704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4" name=""/>
                    <p:cNvSpPr/>
                    <p:nvPr/>
                  </p:nvSpPr>
                  <p:spPr>
                    <a:xfrm>
                      <a:off x="311616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5" name=""/>
                    <p:cNvSpPr/>
                    <p:nvPr/>
                  </p:nvSpPr>
                  <p:spPr>
                    <a:xfrm>
                      <a:off x="336564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6" name=""/>
                    <p:cNvSpPr/>
                    <p:nvPr/>
                  </p:nvSpPr>
                  <p:spPr>
                    <a:xfrm>
                      <a:off x="461160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7" name=""/>
                    <p:cNvSpPr/>
                    <p:nvPr/>
                  </p:nvSpPr>
                  <p:spPr>
                    <a:xfrm>
                      <a:off x="486108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8" name=""/>
                    <p:cNvSpPr/>
                    <p:nvPr/>
                  </p:nvSpPr>
                  <p:spPr>
                    <a:xfrm>
                      <a:off x="610704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9" name=""/>
                    <p:cNvSpPr/>
                    <p:nvPr/>
                  </p:nvSpPr>
                  <p:spPr>
                    <a:xfrm>
                      <a:off x="635652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0" name=""/>
                    <p:cNvSpPr/>
                    <p:nvPr/>
                  </p:nvSpPr>
                  <p:spPr>
                    <a:xfrm>
                      <a:off x="660564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1" name=""/>
                    <p:cNvSpPr/>
                    <p:nvPr/>
                  </p:nvSpPr>
                  <p:spPr>
                    <a:xfrm>
                      <a:off x="685476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2" name=""/>
                    <p:cNvSpPr/>
                    <p:nvPr/>
                  </p:nvSpPr>
                  <p:spPr>
                    <a:xfrm>
                      <a:off x="511020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3" name=""/>
                    <p:cNvSpPr/>
                    <p:nvPr/>
                  </p:nvSpPr>
                  <p:spPr>
                    <a:xfrm>
                      <a:off x="5359320" y="22604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4" name=""/>
                    <p:cNvSpPr/>
                    <p:nvPr/>
                  </p:nvSpPr>
                  <p:spPr>
                    <a:xfrm>
                      <a:off x="560880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5" name=""/>
                    <p:cNvSpPr/>
                    <p:nvPr/>
                  </p:nvSpPr>
                  <p:spPr>
                    <a:xfrm>
                      <a:off x="585792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6" name=""/>
                    <p:cNvSpPr/>
                    <p:nvPr/>
                  </p:nvSpPr>
                  <p:spPr>
                    <a:xfrm>
                      <a:off x="710424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7" name=""/>
                    <p:cNvSpPr/>
                    <p:nvPr/>
                  </p:nvSpPr>
                  <p:spPr>
                    <a:xfrm>
                      <a:off x="7353360" y="22604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8" name=""/>
                    <p:cNvSpPr/>
                    <p:nvPr/>
                  </p:nvSpPr>
                  <p:spPr>
                    <a:xfrm>
                      <a:off x="361476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9" name=""/>
                    <p:cNvSpPr/>
                    <p:nvPr/>
                  </p:nvSpPr>
                  <p:spPr>
                    <a:xfrm>
                      <a:off x="386388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0" name=""/>
                    <p:cNvSpPr/>
                    <p:nvPr/>
                  </p:nvSpPr>
                  <p:spPr>
                    <a:xfrm>
                      <a:off x="411336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1" name=""/>
                    <p:cNvSpPr/>
                    <p:nvPr/>
                  </p:nvSpPr>
                  <p:spPr>
                    <a:xfrm>
                      <a:off x="436248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2" name=""/>
                    <p:cNvSpPr/>
                    <p:nvPr/>
                  </p:nvSpPr>
                  <p:spPr>
                    <a:xfrm>
                      <a:off x="261792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3" name=""/>
                    <p:cNvSpPr/>
                    <p:nvPr/>
                  </p:nvSpPr>
                  <p:spPr>
                    <a:xfrm>
                      <a:off x="286704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4" name=""/>
                    <p:cNvSpPr/>
                    <p:nvPr/>
                  </p:nvSpPr>
                  <p:spPr>
                    <a:xfrm>
                      <a:off x="311616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5" name=""/>
                    <p:cNvSpPr/>
                    <p:nvPr/>
                  </p:nvSpPr>
                  <p:spPr>
                    <a:xfrm>
                      <a:off x="336564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6" name=""/>
                    <p:cNvSpPr/>
                    <p:nvPr/>
                  </p:nvSpPr>
                  <p:spPr>
                    <a:xfrm>
                      <a:off x="461160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7" name=""/>
                    <p:cNvSpPr/>
                    <p:nvPr/>
                  </p:nvSpPr>
                  <p:spPr>
                    <a:xfrm>
                      <a:off x="486108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8" name=""/>
                    <p:cNvSpPr/>
                    <p:nvPr/>
                  </p:nvSpPr>
                  <p:spPr>
                    <a:xfrm>
                      <a:off x="610704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9" name=""/>
                    <p:cNvSpPr/>
                    <p:nvPr/>
                  </p:nvSpPr>
                  <p:spPr>
                    <a:xfrm>
                      <a:off x="635652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0" name=""/>
                    <p:cNvSpPr/>
                    <p:nvPr/>
                  </p:nvSpPr>
                  <p:spPr>
                    <a:xfrm>
                      <a:off x="660564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1" name=""/>
                    <p:cNvSpPr/>
                    <p:nvPr/>
                  </p:nvSpPr>
                  <p:spPr>
                    <a:xfrm>
                      <a:off x="685476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2" name=""/>
                    <p:cNvSpPr/>
                    <p:nvPr/>
                  </p:nvSpPr>
                  <p:spPr>
                    <a:xfrm>
                      <a:off x="511020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3" name=""/>
                    <p:cNvSpPr/>
                    <p:nvPr/>
                  </p:nvSpPr>
                  <p:spPr>
                    <a:xfrm>
                      <a:off x="5359320" y="250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4" name=""/>
                    <p:cNvSpPr/>
                    <p:nvPr/>
                  </p:nvSpPr>
                  <p:spPr>
                    <a:xfrm>
                      <a:off x="560880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5" name=""/>
                    <p:cNvSpPr/>
                    <p:nvPr/>
                  </p:nvSpPr>
                  <p:spPr>
                    <a:xfrm>
                      <a:off x="585792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6" name=""/>
                    <p:cNvSpPr/>
                    <p:nvPr/>
                  </p:nvSpPr>
                  <p:spPr>
                    <a:xfrm>
                      <a:off x="710424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7" name=""/>
                    <p:cNvSpPr/>
                    <p:nvPr/>
                  </p:nvSpPr>
                  <p:spPr>
                    <a:xfrm>
                      <a:off x="7353360" y="250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8" name=""/>
                    <p:cNvSpPr/>
                    <p:nvPr/>
                  </p:nvSpPr>
                  <p:spPr>
                    <a:xfrm>
                      <a:off x="361476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9" name=""/>
                    <p:cNvSpPr/>
                    <p:nvPr/>
                  </p:nvSpPr>
                  <p:spPr>
                    <a:xfrm>
                      <a:off x="386388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0" name=""/>
                    <p:cNvSpPr/>
                    <p:nvPr/>
                  </p:nvSpPr>
                  <p:spPr>
                    <a:xfrm>
                      <a:off x="411336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1" name=""/>
                    <p:cNvSpPr/>
                    <p:nvPr/>
                  </p:nvSpPr>
                  <p:spPr>
                    <a:xfrm>
                      <a:off x="436248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2" name=""/>
                    <p:cNvSpPr/>
                    <p:nvPr/>
                  </p:nvSpPr>
                  <p:spPr>
                    <a:xfrm>
                      <a:off x="261792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3" name=""/>
                    <p:cNvSpPr/>
                    <p:nvPr/>
                  </p:nvSpPr>
                  <p:spPr>
                    <a:xfrm>
                      <a:off x="286704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4" name=""/>
                    <p:cNvSpPr/>
                    <p:nvPr/>
                  </p:nvSpPr>
                  <p:spPr>
                    <a:xfrm>
                      <a:off x="311616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5" name=""/>
                    <p:cNvSpPr/>
                    <p:nvPr/>
                  </p:nvSpPr>
                  <p:spPr>
                    <a:xfrm>
                      <a:off x="336564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6" name=""/>
                    <p:cNvSpPr/>
                    <p:nvPr/>
                  </p:nvSpPr>
                  <p:spPr>
                    <a:xfrm>
                      <a:off x="461160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7" name=""/>
                    <p:cNvSpPr/>
                    <p:nvPr/>
                  </p:nvSpPr>
                  <p:spPr>
                    <a:xfrm>
                      <a:off x="486108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8" name=""/>
                    <p:cNvSpPr/>
                    <p:nvPr/>
                  </p:nvSpPr>
                  <p:spPr>
                    <a:xfrm>
                      <a:off x="610704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9" name=""/>
                    <p:cNvSpPr/>
                    <p:nvPr/>
                  </p:nvSpPr>
                  <p:spPr>
                    <a:xfrm>
                      <a:off x="635652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0" name=""/>
                    <p:cNvSpPr/>
                    <p:nvPr/>
                  </p:nvSpPr>
                  <p:spPr>
                    <a:xfrm>
                      <a:off x="660564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1" name=""/>
                    <p:cNvSpPr/>
                    <p:nvPr/>
                  </p:nvSpPr>
                  <p:spPr>
                    <a:xfrm>
                      <a:off x="685476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2" name=""/>
                    <p:cNvSpPr/>
                    <p:nvPr/>
                  </p:nvSpPr>
                  <p:spPr>
                    <a:xfrm>
                      <a:off x="511020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3" name=""/>
                    <p:cNvSpPr/>
                    <p:nvPr/>
                  </p:nvSpPr>
                  <p:spPr>
                    <a:xfrm>
                      <a:off x="5359320" y="27590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4" name=""/>
                    <p:cNvSpPr/>
                    <p:nvPr/>
                  </p:nvSpPr>
                  <p:spPr>
                    <a:xfrm>
                      <a:off x="560880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5" name=""/>
                    <p:cNvSpPr/>
                    <p:nvPr/>
                  </p:nvSpPr>
                  <p:spPr>
                    <a:xfrm>
                      <a:off x="585792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6" name=""/>
                    <p:cNvSpPr/>
                    <p:nvPr/>
                  </p:nvSpPr>
                  <p:spPr>
                    <a:xfrm>
                      <a:off x="710424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7" name=""/>
                    <p:cNvSpPr/>
                    <p:nvPr/>
                  </p:nvSpPr>
                  <p:spPr>
                    <a:xfrm>
                      <a:off x="7353360" y="27590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8" name=""/>
                    <p:cNvSpPr/>
                    <p:nvPr/>
                  </p:nvSpPr>
                  <p:spPr>
                    <a:xfrm>
                      <a:off x="361476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9" name=""/>
                    <p:cNvSpPr/>
                    <p:nvPr/>
                  </p:nvSpPr>
                  <p:spPr>
                    <a:xfrm>
                      <a:off x="386388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0" name=""/>
                    <p:cNvSpPr/>
                    <p:nvPr/>
                  </p:nvSpPr>
                  <p:spPr>
                    <a:xfrm>
                      <a:off x="411336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1" name=""/>
                    <p:cNvSpPr/>
                    <p:nvPr/>
                  </p:nvSpPr>
                  <p:spPr>
                    <a:xfrm>
                      <a:off x="436248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2" name=""/>
                    <p:cNvSpPr/>
                    <p:nvPr/>
                  </p:nvSpPr>
                  <p:spPr>
                    <a:xfrm>
                      <a:off x="261792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3" name=""/>
                    <p:cNvSpPr/>
                    <p:nvPr/>
                  </p:nvSpPr>
                  <p:spPr>
                    <a:xfrm>
                      <a:off x="286704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4" name=""/>
                    <p:cNvSpPr/>
                    <p:nvPr/>
                  </p:nvSpPr>
                  <p:spPr>
                    <a:xfrm>
                      <a:off x="311616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5" name=""/>
                    <p:cNvSpPr/>
                    <p:nvPr/>
                  </p:nvSpPr>
                  <p:spPr>
                    <a:xfrm>
                      <a:off x="336564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6" name=""/>
                    <p:cNvSpPr/>
                    <p:nvPr/>
                  </p:nvSpPr>
                  <p:spPr>
                    <a:xfrm>
                      <a:off x="461160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7" name=""/>
                    <p:cNvSpPr/>
                    <p:nvPr/>
                  </p:nvSpPr>
                  <p:spPr>
                    <a:xfrm>
                      <a:off x="486108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8" name=""/>
                    <p:cNvSpPr/>
                    <p:nvPr/>
                  </p:nvSpPr>
                  <p:spPr>
                    <a:xfrm>
                      <a:off x="610704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9" name=""/>
                    <p:cNvSpPr/>
                    <p:nvPr/>
                  </p:nvSpPr>
                  <p:spPr>
                    <a:xfrm>
                      <a:off x="635652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0" name=""/>
                    <p:cNvSpPr/>
                    <p:nvPr/>
                  </p:nvSpPr>
                  <p:spPr>
                    <a:xfrm>
                      <a:off x="660564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1" name=""/>
                    <p:cNvSpPr/>
                    <p:nvPr/>
                  </p:nvSpPr>
                  <p:spPr>
                    <a:xfrm>
                      <a:off x="685476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2" name=""/>
                    <p:cNvSpPr/>
                    <p:nvPr/>
                  </p:nvSpPr>
                  <p:spPr>
                    <a:xfrm>
                      <a:off x="511020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3" name=""/>
                    <p:cNvSpPr/>
                    <p:nvPr/>
                  </p:nvSpPr>
                  <p:spPr>
                    <a:xfrm>
                      <a:off x="5359320" y="300816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4" name=""/>
                    <p:cNvSpPr/>
                    <p:nvPr/>
                  </p:nvSpPr>
                  <p:spPr>
                    <a:xfrm>
                      <a:off x="560880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5" name=""/>
                    <p:cNvSpPr/>
                    <p:nvPr/>
                  </p:nvSpPr>
                  <p:spPr>
                    <a:xfrm>
                      <a:off x="585792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6" name=""/>
                    <p:cNvSpPr/>
                    <p:nvPr/>
                  </p:nvSpPr>
                  <p:spPr>
                    <a:xfrm>
                      <a:off x="710424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7" name=""/>
                    <p:cNvSpPr/>
                    <p:nvPr/>
                  </p:nvSpPr>
                  <p:spPr>
                    <a:xfrm>
                      <a:off x="7353360" y="300816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8" name=""/>
                    <p:cNvSpPr/>
                    <p:nvPr/>
                  </p:nvSpPr>
                  <p:spPr>
                    <a:xfrm>
                      <a:off x="361476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9" name=""/>
                    <p:cNvSpPr/>
                    <p:nvPr/>
                  </p:nvSpPr>
                  <p:spPr>
                    <a:xfrm>
                      <a:off x="386388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0" name=""/>
                    <p:cNvSpPr/>
                    <p:nvPr/>
                  </p:nvSpPr>
                  <p:spPr>
                    <a:xfrm>
                      <a:off x="411336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1" name=""/>
                    <p:cNvSpPr/>
                    <p:nvPr/>
                  </p:nvSpPr>
                  <p:spPr>
                    <a:xfrm>
                      <a:off x="436248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2" name=""/>
                    <p:cNvSpPr/>
                    <p:nvPr/>
                  </p:nvSpPr>
                  <p:spPr>
                    <a:xfrm>
                      <a:off x="261792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3" name=""/>
                    <p:cNvSpPr/>
                    <p:nvPr/>
                  </p:nvSpPr>
                  <p:spPr>
                    <a:xfrm>
                      <a:off x="286704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4" name=""/>
                    <p:cNvSpPr/>
                    <p:nvPr/>
                  </p:nvSpPr>
                  <p:spPr>
                    <a:xfrm>
                      <a:off x="311616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5" name=""/>
                    <p:cNvSpPr/>
                    <p:nvPr/>
                  </p:nvSpPr>
                  <p:spPr>
                    <a:xfrm>
                      <a:off x="336564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6" name=""/>
                    <p:cNvSpPr/>
                    <p:nvPr/>
                  </p:nvSpPr>
                  <p:spPr>
                    <a:xfrm>
                      <a:off x="461160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7" name=""/>
                    <p:cNvSpPr/>
                    <p:nvPr/>
                  </p:nvSpPr>
                  <p:spPr>
                    <a:xfrm>
                      <a:off x="486108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8" name=""/>
                    <p:cNvSpPr/>
                    <p:nvPr/>
                  </p:nvSpPr>
                  <p:spPr>
                    <a:xfrm>
                      <a:off x="610704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9" name=""/>
                    <p:cNvSpPr/>
                    <p:nvPr/>
                  </p:nvSpPr>
                  <p:spPr>
                    <a:xfrm>
                      <a:off x="635652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0" name=""/>
                    <p:cNvSpPr/>
                    <p:nvPr/>
                  </p:nvSpPr>
                  <p:spPr>
                    <a:xfrm>
                      <a:off x="660564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1" name=""/>
                    <p:cNvSpPr/>
                    <p:nvPr/>
                  </p:nvSpPr>
                  <p:spPr>
                    <a:xfrm>
                      <a:off x="685476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2" name=""/>
                    <p:cNvSpPr/>
                    <p:nvPr/>
                  </p:nvSpPr>
                  <p:spPr>
                    <a:xfrm>
                      <a:off x="511020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3" name=""/>
                    <p:cNvSpPr/>
                    <p:nvPr/>
                  </p:nvSpPr>
                  <p:spPr>
                    <a:xfrm>
                      <a:off x="5359320" y="325764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4" name=""/>
                    <p:cNvSpPr/>
                    <p:nvPr/>
                  </p:nvSpPr>
                  <p:spPr>
                    <a:xfrm>
                      <a:off x="560880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5" name=""/>
                    <p:cNvSpPr/>
                    <p:nvPr/>
                  </p:nvSpPr>
                  <p:spPr>
                    <a:xfrm>
                      <a:off x="585792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6" name=""/>
                    <p:cNvSpPr/>
                    <p:nvPr/>
                  </p:nvSpPr>
                  <p:spPr>
                    <a:xfrm>
                      <a:off x="710424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7" name=""/>
                    <p:cNvSpPr/>
                    <p:nvPr/>
                  </p:nvSpPr>
                  <p:spPr>
                    <a:xfrm>
                      <a:off x="7353360" y="325764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8" name=""/>
                    <p:cNvSpPr/>
                    <p:nvPr/>
                  </p:nvSpPr>
                  <p:spPr>
                    <a:xfrm>
                      <a:off x="361476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9" name=""/>
                    <p:cNvSpPr/>
                    <p:nvPr/>
                  </p:nvSpPr>
                  <p:spPr>
                    <a:xfrm>
                      <a:off x="386388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0" name=""/>
                    <p:cNvSpPr/>
                    <p:nvPr/>
                  </p:nvSpPr>
                  <p:spPr>
                    <a:xfrm>
                      <a:off x="411336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1" name=""/>
                    <p:cNvSpPr/>
                    <p:nvPr/>
                  </p:nvSpPr>
                  <p:spPr>
                    <a:xfrm>
                      <a:off x="436248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2" name=""/>
                    <p:cNvSpPr/>
                    <p:nvPr/>
                  </p:nvSpPr>
                  <p:spPr>
                    <a:xfrm>
                      <a:off x="261792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3" name=""/>
                    <p:cNvSpPr/>
                    <p:nvPr/>
                  </p:nvSpPr>
                  <p:spPr>
                    <a:xfrm>
                      <a:off x="286704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4" name=""/>
                    <p:cNvSpPr/>
                    <p:nvPr/>
                  </p:nvSpPr>
                  <p:spPr>
                    <a:xfrm>
                      <a:off x="311616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5" name=""/>
                    <p:cNvSpPr/>
                    <p:nvPr/>
                  </p:nvSpPr>
                  <p:spPr>
                    <a:xfrm>
                      <a:off x="336564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6" name=""/>
                    <p:cNvSpPr/>
                    <p:nvPr/>
                  </p:nvSpPr>
                  <p:spPr>
                    <a:xfrm>
                      <a:off x="461160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7" name=""/>
                    <p:cNvSpPr/>
                    <p:nvPr/>
                  </p:nvSpPr>
                  <p:spPr>
                    <a:xfrm>
                      <a:off x="486108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8" name=""/>
                    <p:cNvSpPr/>
                    <p:nvPr/>
                  </p:nvSpPr>
                  <p:spPr>
                    <a:xfrm>
                      <a:off x="610704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9" name=""/>
                    <p:cNvSpPr/>
                    <p:nvPr/>
                  </p:nvSpPr>
                  <p:spPr>
                    <a:xfrm>
                      <a:off x="635652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0" name=""/>
                    <p:cNvSpPr/>
                    <p:nvPr/>
                  </p:nvSpPr>
                  <p:spPr>
                    <a:xfrm>
                      <a:off x="660564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1" name=""/>
                    <p:cNvSpPr/>
                    <p:nvPr/>
                  </p:nvSpPr>
                  <p:spPr>
                    <a:xfrm>
                      <a:off x="685476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2" name=""/>
                    <p:cNvSpPr/>
                    <p:nvPr/>
                  </p:nvSpPr>
                  <p:spPr>
                    <a:xfrm>
                      <a:off x="511020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3" name=""/>
                    <p:cNvSpPr/>
                    <p:nvPr/>
                  </p:nvSpPr>
                  <p:spPr>
                    <a:xfrm>
                      <a:off x="5359320" y="35067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4" name=""/>
                    <p:cNvSpPr/>
                    <p:nvPr/>
                  </p:nvSpPr>
                  <p:spPr>
                    <a:xfrm>
                      <a:off x="560880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5" name=""/>
                    <p:cNvSpPr/>
                    <p:nvPr/>
                  </p:nvSpPr>
                  <p:spPr>
                    <a:xfrm>
                      <a:off x="585792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6" name=""/>
                    <p:cNvSpPr/>
                    <p:nvPr/>
                  </p:nvSpPr>
                  <p:spPr>
                    <a:xfrm>
                      <a:off x="710424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7" name=""/>
                    <p:cNvSpPr/>
                    <p:nvPr/>
                  </p:nvSpPr>
                  <p:spPr>
                    <a:xfrm>
                      <a:off x="7353360" y="35067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8" name=""/>
                    <p:cNvSpPr/>
                    <p:nvPr/>
                  </p:nvSpPr>
                  <p:spPr>
                    <a:xfrm>
                      <a:off x="361476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9" name=""/>
                    <p:cNvSpPr/>
                    <p:nvPr/>
                  </p:nvSpPr>
                  <p:spPr>
                    <a:xfrm>
                      <a:off x="386388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0" name=""/>
                    <p:cNvSpPr/>
                    <p:nvPr/>
                  </p:nvSpPr>
                  <p:spPr>
                    <a:xfrm>
                      <a:off x="411336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1" name=""/>
                    <p:cNvSpPr/>
                    <p:nvPr/>
                  </p:nvSpPr>
                  <p:spPr>
                    <a:xfrm>
                      <a:off x="436248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2" name=""/>
                    <p:cNvSpPr/>
                    <p:nvPr/>
                  </p:nvSpPr>
                  <p:spPr>
                    <a:xfrm>
                      <a:off x="261792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3" name=""/>
                    <p:cNvSpPr/>
                    <p:nvPr/>
                  </p:nvSpPr>
                  <p:spPr>
                    <a:xfrm>
                      <a:off x="286704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4" name=""/>
                    <p:cNvSpPr/>
                    <p:nvPr/>
                  </p:nvSpPr>
                  <p:spPr>
                    <a:xfrm>
                      <a:off x="311616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5" name=""/>
                    <p:cNvSpPr/>
                    <p:nvPr/>
                  </p:nvSpPr>
                  <p:spPr>
                    <a:xfrm>
                      <a:off x="336564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6" name=""/>
                    <p:cNvSpPr/>
                    <p:nvPr/>
                  </p:nvSpPr>
                  <p:spPr>
                    <a:xfrm>
                      <a:off x="461160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7" name=""/>
                    <p:cNvSpPr/>
                    <p:nvPr/>
                  </p:nvSpPr>
                  <p:spPr>
                    <a:xfrm>
                      <a:off x="486108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8" name=""/>
                    <p:cNvSpPr/>
                    <p:nvPr/>
                  </p:nvSpPr>
                  <p:spPr>
                    <a:xfrm>
                      <a:off x="610704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9" name=""/>
                    <p:cNvSpPr/>
                    <p:nvPr/>
                  </p:nvSpPr>
                  <p:spPr>
                    <a:xfrm>
                      <a:off x="635652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0" name=""/>
                    <p:cNvSpPr/>
                    <p:nvPr/>
                  </p:nvSpPr>
                  <p:spPr>
                    <a:xfrm>
                      <a:off x="660564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1" name=""/>
                    <p:cNvSpPr/>
                    <p:nvPr/>
                  </p:nvSpPr>
                  <p:spPr>
                    <a:xfrm>
                      <a:off x="685476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2" name=""/>
                    <p:cNvSpPr/>
                    <p:nvPr/>
                  </p:nvSpPr>
                  <p:spPr>
                    <a:xfrm>
                      <a:off x="511020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3" name=""/>
                    <p:cNvSpPr/>
                    <p:nvPr/>
                  </p:nvSpPr>
                  <p:spPr>
                    <a:xfrm>
                      <a:off x="5359320" y="375588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4" name=""/>
                    <p:cNvSpPr/>
                    <p:nvPr/>
                  </p:nvSpPr>
                  <p:spPr>
                    <a:xfrm>
                      <a:off x="560880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5" name=""/>
                    <p:cNvSpPr/>
                    <p:nvPr/>
                  </p:nvSpPr>
                  <p:spPr>
                    <a:xfrm>
                      <a:off x="585792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6" name=""/>
                    <p:cNvSpPr/>
                    <p:nvPr/>
                  </p:nvSpPr>
                  <p:spPr>
                    <a:xfrm>
                      <a:off x="710424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7" name=""/>
                    <p:cNvSpPr/>
                    <p:nvPr/>
                  </p:nvSpPr>
                  <p:spPr>
                    <a:xfrm>
                      <a:off x="7353360" y="375588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8" name=""/>
                    <p:cNvSpPr/>
                    <p:nvPr/>
                  </p:nvSpPr>
                  <p:spPr>
                    <a:xfrm>
                      <a:off x="361476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9" name=""/>
                    <p:cNvSpPr/>
                    <p:nvPr/>
                  </p:nvSpPr>
                  <p:spPr>
                    <a:xfrm>
                      <a:off x="386388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0" name=""/>
                    <p:cNvSpPr/>
                    <p:nvPr/>
                  </p:nvSpPr>
                  <p:spPr>
                    <a:xfrm>
                      <a:off x="411336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1" name=""/>
                    <p:cNvSpPr/>
                    <p:nvPr/>
                  </p:nvSpPr>
                  <p:spPr>
                    <a:xfrm>
                      <a:off x="436248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2" name=""/>
                    <p:cNvSpPr/>
                    <p:nvPr/>
                  </p:nvSpPr>
                  <p:spPr>
                    <a:xfrm>
                      <a:off x="261792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3" name=""/>
                    <p:cNvSpPr/>
                    <p:nvPr/>
                  </p:nvSpPr>
                  <p:spPr>
                    <a:xfrm>
                      <a:off x="286704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4" name=""/>
                    <p:cNvSpPr/>
                    <p:nvPr/>
                  </p:nvSpPr>
                  <p:spPr>
                    <a:xfrm>
                      <a:off x="311616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5" name=""/>
                    <p:cNvSpPr/>
                    <p:nvPr/>
                  </p:nvSpPr>
                  <p:spPr>
                    <a:xfrm>
                      <a:off x="336564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6" name=""/>
                    <p:cNvSpPr/>
                    <p:nvPr/>
                  </p:nvSpPr>
                  <p:spPr>
                    <a:xfrm>
                      <a:off x="461160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7" name=""/>
                    <p:cNvSpPr/>
                    <p:nvPr/>
                  </p:nvSpPr>
                  <p:spPr>
                    <a:xfrm>
                      <a:off x="486108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8" name=""/>
                    <p:cNvSpPr/>
                    <p:nvPr/>
                  </p:nvSpPr>
                  <p:spPr>
                    <a:xfrm>
                      <a:off x="610704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9" name=""/>
                    <p:cNvSpPr/>
                    <p:nvPr/>
                  </p:nvSpPr>
                  <p:spPr>
                    <a:xfrm>
                      <a:off x="635652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0" name=""/>
                    <p:cNvSpPr/>
                    <p:nvPr/>
                  </p:nvSpPr>
                  <p:spPr>
                    <a:xfrm>
                      <a:off x="660564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1" name=""/>
                    <p:cNvSpPr/>
                    <p:nvPr/>
                  </p:nvSpPr>
                  <p:spPr>
                    <a:xfrm>
                      <a:off x="685476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2" name=""/>
                    <p:cNvSpPr/>
                    <p:nvPr/>
                  </p:nvSpPr>
                  <p:spPr>
                    <a:xfrm>
                      <a:off x="511020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3" name=""/>
                    <p:cNvSpPr/>
                    <p:nvPr/>
                  </p:nvSpPr>
                  <p:spPr>
                    <a:xfrm>
                      <a:off x="5359320" y="400536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4" name=""/>
                    <p:cNvSpPr/>
                    <p:nvPr/>
                  </p:nvSpPr>
                  <p:spPr>
                    <a:xfrm>
                      <a:off x="560880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5" name=""/>
                    <p:cNvSpPr/>
                    <p:nvPr/>
                  </p:nvSpPr>
                  <p:spPr>
                    <a:xfrm>
                      <a:off x="585792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6" name=""/>
                    <p:cNvSpPr/>
                    <p:nvPr/>
                  </p:nvSpPr>
                  <p:spPr>
                    <a:xfrm>
                      <a:off x="710424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7" name=""/>
                    <p:cNvSpPr/>
                    <p:nvPr/>
                  </p:nvSpPr>
                  <p:spPr>
                    <a:xfrm>
                      <a:off x="7353360" y="400536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8" name=""/>
                    <p:cNvSpPr/>
                    <p:nvPr/>
                  </p:nvSpPr>
                  <p:spPr>
                    <a:xfrm>
                      <a:off x="361476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9" name=""/>
                    <p:cNvSpPr/>
                    <p:nvPr/>
                  </p:nvSpPr>
                  <p:spPr>
                    <a:xfrm>
                      <a:off x="386388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0" name=""/>
                    <p:cNvSpPr/>
                    <p:nvPr/>
                  </p:nvSpPr>
                  <p:spPr>
                    <a:xfrm>
                      <a:off x="411336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1" name=""/>
                    <p:cNvSpPr/>
                    <p:nvPr/>
                  </p:nvSpPr>
                  <p:spPr>
                    <a:xfrm>
                      <a:off x="436248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2" name=""/>
                    <p:cNvSpPr/>
                    <p:nvPr/>
                  </p:nvSpPr>
                  <p:spPr>
                    <a:xfrm>
                      <a:off x="261792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3" name=""/>
                    <p:cNvSpPr/>
                    <p:nvPr/>
                  </p:nvSpPr>
                  <p:spPr>
                    <a:xfrm>
                      <a:off x="286704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4" name=""/>
                    <p:cNvSpPr/>
                    <p:nvPr/>
                  </p:nvSpPr>
                  <p:spPr>
                    <a:xfrm>
                      <a:off x="311616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5" name=""/>
                    <p:cNvSpPr/>
                    <p:nvPr/>
                  </p:nvSpPr>
                  <p:spPr>
                    <a:xfrm>
                      <a:off x="336564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6" name=""/>
                    <p:cNvSpPr/>
                    <p:nvPr/>
                  </p:nvSpPr>
                  <p:spPr>
                    <a:xfrm>
                      <a:off x="461160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7" name=""/>
                    <p:cNvSpPr/>
                    <p:nvPr/>
                  </p:nvSpPr>
                  <p:spPr>
                    <a:xfrm>
                      <a:off x="486108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8" name=""/>
                    <p:cNvSpPr/>
                    <p:nvPr/>
                  </p:nvSpPr>
                  <p:spPr>
                    <a:xfrm>
                      <a:off x="610704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9" name=""/>
                    <p:cNvSpPr/>
                    <p:nvPr/>
                  </p:nvSpPr>
                  <p:spPr>
                    <a:xfrm>
                      <a:off x="635652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0" name=""/>
                    <p:cNvSpPr/>
                    <p:nvPr/>
                  </p:nvSpPr>
                  <p:spPr>
                    <a:xfrm>
                      <a:off x="660564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1" name=""/>
                    <p:cNvSpPr/>
                    <p:nvPr/>
                  </p:nvSpPr>
                  <p:spPr>
                    <a:xfrm>
                      <a:off x="685476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2" name=""/>
                    <p:cNvSpPr/>
                    <p:nvPr/>
                  </p:nvSpPr>
                  <p:spPr>
                    <a:xfrm>
                      <a:off x="511020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3" name=""/>
                    <p:cNvSpPr/>
                    <p:nvPr/>
                  </p:nvSpPr>
                  <p:spPr>
                    <a:xfrm>
                      <a:off x="5359320" y="42544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4" name=""/>
                    <p:cNvSpPr/>
                    <p:nvPr/>
                  </p:nvSpPr>
                  <p:spPr>
                    <a:xfrm>
                      <a:off x="560880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5" name=""/>
                    <p:cNvSpPr/>
                    <p:nvPr/>
                  </p:nvSpPr>
                  <p:spPr>
                    <a:xfrm>
                      <a:off x="585792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6" name=""/>
                    <p:cNvSpPr/>
                    <p:nvPr/>
                  </p:nvSpPr>
                  <p:spPr>
                    <a:xfrm>
                      <a:off x="710424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7" name=""/>
                    <p:cNvSpPr/>
                    <p:nvPr/>
                  </p:nvSpPr>
                  <p:spPr>
                    <a:xfrm>
                      <a:off x="7353360" y="42544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8" name=""/>
                    <p:cNvSpPr/>
                    <p:nvPr/>
                  </p:nvSpPr>
                  <p:spPr>
                    <a:xfrm>
                      <a:off x="361476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9" name=""/>
                    <p:cNvSpPr/>
                    <p:nvPr/>
                  </p:nvSpPr>
                  <p:spPr>
                    <a:xfrm>
                      <a:off x="386388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0" name=""/>
                    <p:cNvSpPr/>
                    <p:nvPr/>
                  </p:nvSpPr>
                  <p:spPr>
                    <a:xfrm>
                      <a:off x="411336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1" name=""/>
                    <p:cNvSpPr/>
                    <p:nvPr/>
                  </p:nvSpPr>
                  <p:spPr>
                    <a:xfrm>
                      <a:off x="436248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2" name=""/>
                    <p:cNvSpPr/>
                    <p:nvPr/>
                  </p:nvSpPr>
                  <p:spPr>
                    <a:xfrm>
                      <a:off x="261792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3" name=""/>
                    <p:cNvSpPr/>
                    <p:nvPr/>
                  </p:nvSpPr>
                  <p:spPr>
                    <a:xfrm>
                      <a:off x="286704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4" name=""/>
                    <p:cNvSpPr/>
                    <p:nvPr/>
                  </p:nvSpPr>
                  <p:spPr>
                    <a:xfrm>
                      <a:off x="311616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5" name=""/>
                    <p:cNvSpPr/>
                    <p:nvPr/>
                  </p:nvSpPr>
                  <p:spPr>
                    <a:xfrm>
                      <a:off x="336564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6" name=""/>
                    <p:cNvSpPr/>
                    <p:nvPr/>
                  </p:nvSpPr>
                  <p:spPr>
                    <a:xfrm>
                      <a:off x="461160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7" name=""/>
                    <p:cNvSpPr/>
                    <p:nvPr/>
                  </p:nvSpPr>
                  <p:spPr>
                    <a:xfrm>
                      <a:off x="486108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8" name=""/>
                    <p:cNvSpPr/>
                    <p:nvPr/>
                  </p:nvSpPr>
                  <p:spPr>
                    <a:xfrm>
                      <a:off x="610704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9" name=""/>
                    <p:cNvSpPr/>
                    <p:nvPr/>
                  </p:nvSpPr>
                  <p:spPr>
                    <a:xfrm>
                      <a:off x="635652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0" name=""/>
                    <p:cNvSpPr/>
                    <p:nvPr/>
                  </p:nvSpPr>
                  <p:spPr>
                    <a:xfrm>
                      <a:off x="660564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1" name=""/>
                    <p:cNvSpPr/>
                    <p:nvPr/>
                  </p:nvSpPr>
                  <p:spPr>
                    <a:xfrm>
                      <a:off x="685476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2" name=""/>
                    <p:cNvSpPr/>
                    <p:nvPr/>
                  </p:nvSpPr>
                  <p:spPr>
                    <a:xfrm>
                      <a:off x="511020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3" name=""/>
                    <p:cNvSpPr/>
                    <p:nvPr/>
                  </p:nvSpPr>
                  <p:spPr>
                    <a:xfrm>
                      <a:off x="5359320" y="450360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4" name=""/>
                    <p:cNvSpPr/>
                    <p:nvPr/>
                  </p:nvSpPr>
                  <p:spPr>
                    <a:xfrm>
                      <a:off x="560880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5" name=""/>
                    <p:cNvSpPr/>
                    <p:nvPr/>
                  </p:nvSpPr>
                  <p:spPr>
                    <a:xfrm>
                      <a:off x="585792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6" name=""/>
                    <p:cNvSpPr/>
                    <p:nvPr/>
                  </p:nvSpPr>
                  <p:spPr>
                    <a:xfrm>
                      <a:off x="710424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7" name=""/>
                    <p:cNvSpPr/>
                    <p:nvPr/>
                  </p:nvSpPr>
                  <p:spPr>
                    <a:xfrm>
                      <a:off x="7353360" y="450360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8" name=""/>
                    <p:cNvSpPr/>
                    <p:nvPr/>
                  </p:nvSpPr>
                  <p:spPr>
                    <a:xfrm>
                      <a:off x="361476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9" name=""/>
                    <p:cNvSpPr/>
                    <p:nvPr/>
                  </p:nvSpPr>
                  <p:spPr>
                    <a:xfrm>
                      <a:off x="386388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0" name=""/>
                    <p:cNvSpPr/>
                    <p:nvPr/>
                  </p:nvSpPr>
                  <p:spPr>
                    <a:xfrm>
                      <a:off x="411336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1" name=""/>
                    <p:cNvSpPr/>
                    <p:nvPr/>
                  </p:nvSpPr>
                  <p:spPr>
                    <a:xfrm>
                      <a:off x="436248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2" name=""/>
                    <p:cNvSpPr/>
                    <p:nvPr/>
                  </p:nvSpPr>
                  <p:spPr>
                    <a:xfrm>
                      <a:off x="261792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3" name=""/>
                    <p:cNvSpPr/>
                    <p:nvPr/>
                  </p:nvSpPr>
                  <p:spPr>
                    <a:xfrm>
                      <a:off x="286704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4" name=""/>
                    <p:cNvSpPr/>
                    <p:nvPr/>
                  </p:nvSpPr>
                  <p:spPr>
                    <a:xfrm>
                      <a:off x="311616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5" name=""/>
                    <p:cNvSpPr/>
                    <p:nvPr/>
                  </p:nvSpPr>
                  <p:spPr>
                    <a:xfrm>
                      <a:off x="336564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6" name=""/>
                    <p:cNvSpPr/>
                    <p:nvPr/>
                  </p:nvSpPr>
                  <p:spPr>
                    <a:xfrm>
                      <a:off x="461160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7" name=""/>
                    <p:cNvSpPr/>
                    <p:nvPr/>
                  </p:nvSpPr>
                  <p:spPr>
                    <a:xfrm>
                      <a:off x="486108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8" name=""/>
                    <p:cNvSpPr/>
                    <p:nvPr/>
                  </p:nvSpPr>
                  <p:spPr>
                    <a:xfrm>
                      <a:off x="610704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9" name=""/>
                    <p:cNvSpPr/>
                    <p:nvPr/>
                  </p:nvSpPr>
                  <p:spPr>
                    <a:xfrm>
                      <a:off x="635652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0" name=""/>
                    <p:cNvSpPr/>
                    <p:nvPr/>
                  </p:nvSpPr>
                  <p:spPr>
                    <a:xfrm>
                      <a:off x="660564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1" name=""/>
                    <p:cNvSpPr/>
                    <p:nvPr/>
                  </p:nvSpPr>
                  <p:spPr>
                    <a:xfrm>
                      <a:off x="685476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2" name=""/>
                    <p:cNvSpPr/>
                    <p:nvPr/>
                  </p:nvSpPr>
                  <p:spPr>
                    <a:xfrm>
                      <a:off x="511020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3" name=""/>
                    <p:cNvSpPr/>
                    <p:nvPr/>
                  </p:nvSpPr>
                  <p:spPr>
                    <a:xfrm>
                      <a:off x="5359320" y="475308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4" name=""/>
                    <p:cNvSpPr/>
                    <p:nvPr/>
                  </p:nvSpPr>
                  <p:spPr>
                    <a:xfrm>
                      <a:off x="560880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5" name=""/>
                    <p:cNvSpPr/>
                    <p:nvPr/>
                  </p:nvSpPr>
                  <p:spPr>
                    <a:xfrm>
                      <a:off x="585792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6" name=""/>
                    <p:cNvSpPr/>
                    <p:nvPr/>
                  </p:nvSpPr>
                  <p:spPr>
                    <a:xfrm>
                      <a:off x="710424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7" name=""/>
                    <p:cNvSpPr/>
                    <p:nvPr/>
                  </p:nvSpPr>
                  <p:spPr>
                    <a:xfrm>
                      <a:off x="7353360" y="475308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8" name=""/>
                    <p:cNvSpPr/>
                    <p:nvPr/>
                  </p:nvSpPr>
                  <p:spPr>
                    <a:xfrm>
                      <a:off x="361476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9" name=""/>
                    <p:cNvSpPr/>
                    <p:nvPr/>
                  </p:nvSpPr>
                  <p:spPr>
                    <a:xfrm>
                      <a:off x="386388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0" name=""/>
                    <p:cNvSpPr/>
                    <p:nvPr/>
                  </p:nvSpPr>
                  <p:spPr>
                    <a:xfrm>
                      <a:off x="411336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1" name=""/>
                    <p:cNvSpPr/>
                    <p:nvPr/>
                  </p:nvSpPr>
                  <p:spPr>
                    <a:xfrm>
                      <a:off x="436248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2" name=""/>
                    <p:cNvSpPr/>
                    <p:nvPr/>
                  </p:nvSpPr>
                  <p:spPr>
                    <a:xfrm>
                      <a:off x="261792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3" name=""/>
                    <p:cNvSpPr/>
                    <p:nvPr/>
                  </p:nvSpPr>
                  <p:spPr>
                    <a:xfrm>
                      <a:off x="286704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4" name=""/>
                    <p:cNvSpPr/>
                    <p:nvPr/>
                  </p:nvSpPr>
                  <p:spPr>
                    <a:xfrm>
                      <a:off x="311616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5" name=""/>
                    <p:cNvSpPr/>
                    <p:nvPr/>
                  </p:nvSpPr>
                  <p:spPr>
                    <a:xfrm>
                      <a:off x="336564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6" name=""/>
                    <p:cNvSpPr/>
                    <p:nvPr/>
                  </p:nvSpPr>
                  <p:spPr>
                    <a:xfrm>
                      <a:off x="461160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7" name=""/>
                    <p:cNvSpPr/>
                    <p:nvPr/>
                  </p:nvSpPr>
                  <p:spPr>
                    <a:xfrm>
                      <a:off x="486108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8" name=""/>
                    <p:cNvSpPr/>
                    <p:nvPr/>
                  </p:nvSpPr>
                  <p:spPr>
                    <a:xfrm>
                      <a:off x="610704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9" name=""/>
                    <p:cNvSpPr/>
                    <p:nvPr/>
                  </p:nvSpPr>
                  <p:spPr>
                    <a:xfrm>
                      <a:off x="635652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0" name=""/>
                    <p:cNvSpPr/>
                    <p:nvPr/>
                  </p:nvSpPr>
                  <p:spPr>
                    <a:xfrm>
                      <a:off x="660564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1" name=""/>
                    <p:cNvSpPr/>
                    <p:nvPr/>
                  </p:nvSpPr>
                  <p:spPr>
                    <a:xfrm>
                      <a:off x="685476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2" name=""/>
                    <p:cNvSpPr/>
                    <p:nvPr/>
                  </p:nvSpPr>
                  <p:spPr>
                    <a:xfrm>
                      <a:off x="511020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3" name=""/>
                    <p:cNvSpPr/>
                    <p:nvPr/>
                  </p:nvSpPr>
                  <p:spPr>
                    <a:xfrm>
                      <a:off x="5359320" y="50022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4" name=""/>
                    <p:cNvSpPr/>
                    <p:nvPr/>
                  </p:nvSpPr>
                  <p:spPr>
                    <a:xfrm>
                      <a:off x="560880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5" name=""/>
                    <p:cNvSpPr/>
                    <p:nvPr/>
                  </p:nvSpPr>
                  <p:spPr>
                    <a:xfrm>
                      <a:off x="585792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6" name=""/>
                    <p:cNvSpPr/>
                    <p:nvPr/>
                  </p:nvSpPr>
                  <p:spPr>
                    <a:xfrm>
                      <a:off x="710424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7" name=""/>
                    <p:cNvSpPr/>
                    <p:nvPr/>
                  </p:nvSpPr>
                  <p:spPr>
                    <a:xfrm>
                      <a:off x="7353360" y="50022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8" name=""/>
                    <p:cNvSpPr/>
                    <p:nvPr/>
                  </p:nvSpPr>
                  <p:spPr>
                    <a:xfrm>
                      <a:off x="361476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9" name=""/>
                    <p:cNvSpPr/>
                    <p:nvPr/>
                  </p:nvSpPr>
                  <p:spPr>
                    <a:xfrm>
                      <a:off x="386388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0" name=""/>
                    <p:cNvSpPr/>
                    <p:nvPr/>
                  </p:nvSpPr>
                  <p:spPr>
                    <a:xfrm>
                      <a:off x="411336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1" name=""/>
                    <p:cNvSpPr/>
                    <p:nvPr/>
                  </p:nvSpPr>
                  <p:spPr>
                    <a:xfrm>
                      <a:off x="436248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2" name=""/>
                    <p:cNvSpPr/>
                    <p:nvPr/>
                  </p:nvSpPr>
                  <p:spPr>
                    <a:xfrm>
                      <a:off x="261792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3" name=""/>
                    <p:cNvSpPr/>
                    <p:nvPr/>
                  </p:nvSpPr>
                  <p:spPr>
                    <a:xfrm>
                      <a:off x="286704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4" name=""/>
                    <p:cNvSpPr/>
                    <p:nvPr/>
                  </p:nvSpPr>
                  <p:spPr>
                    <a:xfrm>
                      <a:off x="311616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5" name=""/>
                    <p:cNvSpPr/>
                    <p:nvPr/>
                  </p:nvSpPr>
                  <p:spPr>
                    <a:xfrm>
                      <a:off x="336564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6" name=""/>
                    <p:cNvSpPr/>
                    <p:nvPr/>
                  </p:nvSpPr>
                  <p:spPr>
                    <a:xfrm>
                      <a:off x="461160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7" name=""/>
                    <p:cNvSpPr/>
                    <p:nvPr/>
                  </p:nvSpPr>
                  <p:spPr>
                    <a:xfrm>
                      <a:off x="486108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8" name=""/>
                    <p:cNvSpPr/>
                    <p:nvPr/>
                  </p:nvSpPr>
                  <p:spPr>
                    <a:xfrm>
                      <a:off x="610704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9" name=""/>
                    <p:cNvSpPr/>
                    <p:nvPr/>
                  </p:nvSpPr>
                  <p:spPr>
                    <a:xfrm>
                      <a:off x="635652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0" name=""/>
                    <p:cNvSpPr/>
                    <p:nvPr/>
                  </p:nvSpPr>
                  <p:spPr>
                    <a:xfrm>
                      <a:off x="660564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1" name=""/>
                    <p:cNvSpPr/>
                    <p:nvPr/>
                  </p:nvSpPr>
                  <p:spPr>
                    <a:xfrm>
                      <a:off x="685476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2" name=""/>
                    <p:cNvSpPr/>
                    <p:nvPr/>
                  </p:nvSpPr>
                  <p:spPr>
                    <a:xfrm>
                      <a:off x="511020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3" name=""/>
                    <p:cNvSpPr/>
                    <p:nvPr/>
                  </p:nvSpPr>
                  <p:spPr>
                    <a:xfrm>
                      <a:off x="5359320" y="525132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4" name=""/>
                    <p:cNvSpPr/>
                    <p:nvPr/>
                  </p:nvSpPr>
                  <p:spPr>
                    <a:xfrm>
                      <a:off x="560880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5" name=""/>
                    <p:cNvSpPr/>
                    <p:nvPr/>
                  </p:nvSpPr>
                  <p:spPr>
                    <a:xfrm>
                      <a:off x="585792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6" name=""/>
                    <p:cNvSpPr/>
                    <p:nvPr/>
                  </p:nvSpPr>
                  <p:spPr>
                    <a:xfrm>
                      <a:off x="710424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7" name=""/>
                    <p:cNvSpPr/>
                    <p:nvPr/>
                  </p:nvSpPr>
                  <p:spPr>
                    <a:xfrm>
                      <a:off x="7353360" y="525132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8" name=""/>
                    <p:cNvSpPr/>
                    <p:nvPr/>
                  </p:nvSpPr>
                  <p:spPr>
                    <a:xfrm>
                      <a:off x="361476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9" name=""/>
                    <p:cNvSpPr/>
                    <p:nvPr/>
                  </p:nvSpPr>
                  <p:spPr>
                    <a:xfrm>
                      <a:off x="386388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0" name=""/>
                    <p:cNvSpPr/>
                    <p:nvPr/>
                  </p:nvSpPr>
                  <p:spPr>
                    <a:xfrm>
                      <a:off x="411336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1" name=""/>
                    <p:cNvSpPr/>
                    <p:nvPr/>
                  </p:nvSpPr>
                  <p:spPr>
                    <a:xfrm>
                      <a:off x="436248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2" name=""/>
                    <p:cNvSpPr/>
                    <p:nvPr/>
                  </p:nvSpPr>
                  <p:spPr>
                    <a:xfrm>
                      <a:off x="261792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3" name=""/>
                    <p:cNvSpPr/>
                    <p:nvPr/>
                  </p:nvSpPr>
                  <p:spPr>
                    <a:xfrm>
                      <a:off x="286704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4" name=""/>
                    <p:cNvSpPr/>
                    <p:nvPr/>
                  </p:nvSpPr>
                  <p:spPr>
                    <a:xfrm>
                      <a:off x="311616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5" name=""/>
                    <p:cNvSpPr/>
                    <p:nvPr/>
                  </p:nvSpPr>
                  <p:spPr>
                    <a:xfrm>
                      <a:off x="336564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6" name=""/>
                    <p:cNvSpPr/>
                    <p:nvPr/>
                  </p:nvSpPr>
                  <p:spPr>
                    <a:xfrm>
                      <a:off x="461160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7" name=""/>
                    <p:cNvSpPr/>
                    <p:nvPr/>
                  </p:nvSpPr>
                  <p:spPr>
                    <a:xfrm>
                      <a:off x="486108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8" name=""/>
                    <p:cNvSpPr/>
                    <p:nvPr/>
                  </p:nvSpPr>
                  <p:spPr>
                    <a:xfrm>
                      <a:off x="610704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9" name=""/>
                    <p:cNvSpPr/>
                    <p:nvPr/>
                  </p:nvSpPr>
                  <p:spPr>
                    <a:xfrm>
                      <a:off x="635652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0" name=""/>
                    <p:cNvSpPr/>
                    <p:nvPr/>
                  </p:nvSpPr>
                  <p:spPr>
                    <a:xfrm>
                      <a:off x="660564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1" name=""/>
                    <p:cNvSpPr/>
                    <p:nvPr/>
                  </p:nvSpPr>
                  <p:spPr>
                    <a:xfrm>
                      <a:off x="685476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2" name=""/>
                    <p:cNvSpPr/>
                    <p:nvPr/>
                  </p:nvSpPr>
                  <p:spPr>
                    <a:xfrm>
                      <a:off x="511020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3" name=""/>
                    <p:cNvSpPr/>
                    <p:nvPr/>
                  </p:nvSpPr>
                  <p:spPr>
                    <a:xfrm>
                      <a:off x="5359320" y="550080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4" name=""/>
                    <p:cNvSpPr/>
                    <p:nvPr/>
                  </p:nvSpPr>
                  <p:spPr>
                    <a:xfrm>
                      <a:off x="560880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5" name=""/>
                    <p:cNvSpPr/>
                    <p:nvPr/>
                  </p:nvSpPr>
                  <p:spPr>
                    <a:xfrm>
                      <a:off x="585792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6" name=""/>
                    <p:cNvSpPr/>
                    <p:nvPr/>
                  </p:nvSpPr>
                  <p:spPr>
                    <a:xfrm>
                      <a:off x="710424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7" name=""/>
                    <p:cNvSpPr/>
                    <p:nvPr/>
                  </p:nvSpPr>
                  <p:spPr>
                    <a:xfrm>
                      <a:off x="7353360" y="550080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8" name=""/>
                    <p:cNvSpPr/>
                    <p:nvPr/>
                  </p:nvSpPr>
                  <p:spPr>
                    <a:xfrm>
                      <a:off x="361476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9" name=""/>
                    <p:cNvSpPr/>
                    <p:nvPr/>
                  </p:nvSpPr>
                  <p:spPr>
                    <a:xfrm>
                      <a:off x="386388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0" name=""/>
                    <p:cNvSpPr/>
                    <p:nvPr/>
                  </p:nvSpPr>
                  <p:spPr>
                    <a:xfrm>
                      <a:off x="411336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1" name=""/>
                    <p:cNvSpPr/>
                    <p:nvPr/>
                  </p:nvSpPr>
                  <p:spPr>
                    <a:xfrm>
                      <a:off x="436248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2" name=""/>
                    <p:cNvSpPr/>
                    <p:nvPr/>
                  </p:nvSpPr>
                  <p:spPr>
                    <a:xfrm>
                      <a:off x="261792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3" name=""/>
                    <p:cNvSpPr/>
                    <p:nvPr/>
                  </p:nvSpPr>
                  <p:spPr>
                    <a:xfrm>
                      <a:off x="286704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4" name=""/>
                    <p:cNvSpPr/>
                    <p:nvPr/>
                  </p:nvSpPr>
                  <p:spPr>
                    <a:xfrm>
                      <a:off x="311616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5" name=""/>
                    <p:cNvSpPr/>
                    <p:nvPr/>
                  </p:nvSpPr>
                  <p:spPr>
                    <a:xfrm>
                      <a:off x="336564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6" name=""/>
                    <p:cNvSpPr/>
                    <p:nvPr/>
                  </p:nvSpPr>
                  <p:spPr>
                    <a:xfrm>
                      <a:off x="461160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7" name=""/>
                    <p:cNvSpPr/>
                    <p:nvPr/>
                  </p:nvSpPr>
                  <p:spPr>
                    <a:xfrm>
                      <a:off x="486108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8" name=""/>
                    <p:cNvSpPr/>
                    <p:nvPr/>
                  </p:nvSpPr>
                  <p:spPr>
                    <a:xfrm>
                      <a:off x="610704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9" name=""/>
                    <p:cNvSpPr/>
                    <p:nvPr/>
                  </p:nvSpPr>
                  <p:spPr>
                    <a:xfrm>
                      <a:off x="635652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0" name=""/>
                    <p:cNvSpPr/>
                    <p:nvPr/>
                  </p:nvSpPr>
                  <p:spPr>
                    <a:xfrm>
                      <a:off x="660564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1" name=""/>
                    <p:cNvSpPr/>
                    <p:nvPr/>
                  </p:nvSpPr>
                  <p:spPr>
                    <a:xfrm>
                      <a:off x="685476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2" name=""/>
                    <p:cNvSpPr/>
                    <p:nvPr/>
                  </p:nvSpPr>
                  <p:spPr>
                    <a:xfrm>
                      <a:off x="511020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3" name=""/>
                    <p:cNvSpPr/>
                    <p:nvPr/>
                  </p:nvSpPr>
                  <p:spPr>
                    <a:xfrm>
                      <a:off x="5359320" y="5749920"/>
                      <a:ext cx="24948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4" name=""/>
                    <p:cNvSpPr/>
                    <p:nvPr/>
                  </p:nvSpPr>
                  <p:spPr>
                    <a:xfrm>
                      <a:off x="560880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5" name=""/>
                    <p:cNvSpPr/>
                    <p:nvPr/>
                  </p:nvSpPr>
                  <p:spPr>
                    <a:xfrm>
                      <a:off x="585792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6" name=""/>
                    <p:cNvSpPr/>
                    <p:nvPr/>
                  </p:nvSpPr>
                  <p:spPr>
                    <a:xfrm>
                      <a:off x="710424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7" name=""/>
                    <p:cNvSpPr/>
                    <p:nvPr/>
                  </p:nvSpPr>
                  <p:spPr>
                    <a:xfrm>
                      <a:off x="7353360" y="5749920"/>
                      <a:ext cx="249120" cy="249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8" name=""/>
                    <p:cNvSpPr/>
                    <p:nvPr/>
                  </p:nvSpPr>
                  <p:spPr>
                    <a:xfrm>
                      <a:off x="361476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9" name=""/>
                    <p:cNvSpPr/>
                    <p:nvPr/>
                  </p:nvSpPr>
                  <p:spPr>
                    <a:xfrm>
                      <a:off x="386388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0" name=""/>
                    <p:cNvSpPr/>
                    <p:nvPr/>
                  </p:nvSpPr>
                  <p:spPr>
                    <a:xfrm>
                      <a:off x="411336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1" name=""/>
                    <p:cNvSpPr/>
                    <p:nvPr/>
                  </p:nvSpPr>
                  <p:spPr>
                    <a:xfrm>
                      <a:off x="436248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2" name=""/>
                    <p:cNvSpPr/>
                    <p:nvPr/>
                  </p:nvSpPr>
                  <p:spPr>
                    <a:xfrm>
                      <a:off x="261792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3" name=""/>
                    <p:cNvSpPr/>
                    <p:nvPr/>
                  </p:nvSpPr>
                  <p:spPr>
                    <a:xfrm>
                      <a:off x="286704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4" name=""/>
                    <p:cNvSpPr/>
                    <p:nvPr/>
                  </p:nvSpPr>
                  <p:spPr>
                    <a:xfrm>
                      <a:off x="311616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5" name=""/>
                    <p:cNvSpPr/>
                    <p:nvPr/>
                  </p:nvSpPr>
                  <p:spPr>
                    <a:xfrm>
                      <a:off x="336564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6" name=""/>
                    <p:cNvSpPr/>
                    <p:nvPr/>
                  </p:nvSpPr>
                  <p:spPr>
                    <a:xfrm>
                      <a:off x="461160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7" name=""/>
                    <p:cNvSpPr/>
                    <p:nvPr/>
                  </p:nvSpPr>
                  <p:spPr>
                    <a:xfrm>
                      <a:off x="486108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8" name=""/>
                    <p:cNvSpPr/>
                    <p:nvPr/>
                  </p:nvSpPr>
                  <p:spPr>
                    <a:xfrm>
                      <a:off x="610704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9" name=""/>
                    <p:cNvSpPr/>
                    <p:nvPr/>
                  </p:nvSpPr>
                  <p:spPr>
                    <a:xfrm>
                      <a:off x="635652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0" name=""/>
                    <p:cNvSpPr/>
                    <p:nvPr/>
                  </p:nvSpPr>
                  <p:spPr>
                    <a:xfrm>
                      <a:off x="660564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1" name=""/>
                    <p:cNvSpPr/>
                    <p:nvPr/>
                  </p:nvSpPr>
                  <p:spPr>
                    <a:xfrm>
                      <a:off x="685476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2" name=""/>
                    <p:cNvSpPr/>
                    <p:nvPr/>
                  </p:nvSpPr>
                  <p:spPr>
                    <a:xfrm>
                      <a:off x="511020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3" name=""/>
                    <p:cNvSpPr/>
                    <p:nvPr/>
                  </p:nvSpPr>
                  <p:spPr>
                    <a:xfrm>
                      <a:off x="5359320" y="5999040"/>
                      <a:ext cx="24948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4" name=""/>
                    <p:cNvSpPr/>
                    <p:nvPr/>
                  </p:nvSpPr>
                  <p:spPr>
                    <a:xfrm>
                      <a:off x="560880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5" name=""/>
                    <p:cNvSpPr/>
                    <p:nvPr/>
                  </p:nvSpPr>
                  <p:spPr>
                    <a:xfrm>
                      <a:off x="585792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6" name=""/>
                    <p:cNvSpPr/>
                    <p:nvPr/>
                  </p:nvSpPr>
                  <p:spPr>
                    <a:xfrm>
                      <a:off x="710424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7" name=""/>
                    <p:cNvSpPr/>
                    <p:nvPr/>
                  </p:nvSpPr>
                  <p:spPr>
                    <a:xfrm>
                      <a:off x="7353360" y="5999040"/>
                      <a:ext cx="249120" cy="249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08" name=""/>
                  <p:cNvSpPr/>
                  <p:nvPr/>
                </p:nvSpPr>
                <p:spPr>
                  <a:xfrm>
                    <a:off x="5110200" y="1263600"/>
                    <a:ext cx="0" cy="498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>
                    <a:off x="2617920" y="3756240"/>
                    <a:ext cx="498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10" name=""/>
                <p:cNvSpPr/>
                <p:nvPr/>
              </p:nvSpPr>
              <p:spPr>
                <a:xfrm>
                  <a:off x="4923000" y="37972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4915080" y="37148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518328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542448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567864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590724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614844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641520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6656400" y="372744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6891480" y="373392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145280" y="3727440"/>
                  <a:ext cx="292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367760" y="3727440"/>
                  <a:ext cx="36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2611440" y="3733920"/>
                  <a:ext cx="355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2878200" y="3733920"/>
                  <a:ext cx="342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3119400" y="3740400"/>
                  <a:ext cx="317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3379680" y="3733920"/>
                  <a:ext cx="36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3608280" y="3740400"/>
                  <a:ext cx="374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3868920" y="3733920"/>
                  <a:ext cx="36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4116240" y="3733920"/>
                  <a:ext cx="38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4363920" y="3733920"/>
                  <a:ext cx="368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4643640" y="3740400"/>
                  <a:ext cx="368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2332080" y="3727440"/>
                  <a:ext cx="387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666200" y="3568680"/>
                  <a:ext cx="32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4979880" y="787320"/>
                  <a:ext cx="324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4924440" y="344808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4905360" y="321012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4915080" y="296712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4905360" y="271476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4905360" y="245268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4910040" y="2210040"/>
                  <a:ext cx="292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4905360" y="196236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4910040" y="1714680"/>
                  <a:ext cx="292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4905360" y="1457280"/>
                  <a:ext cx="291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4872240" y="1204920"/>
                  <a:ext cx="37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4890960" y="3943440"/>
                  <a:ext cx="32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4872240" y="4205520"/>
                  <a:ext cx="325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4862520" y="4448160"/>
                  <a:ext cx="325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4857840" y="470052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4857840" y="496260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4857840" y="519588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4862520" y="544356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4853160" y="5700960"/>
                  <a:ext cx="382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4867200" y="594360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4819680" y="6191280"/>
                  <a:ext cx="382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-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4" name=""/>
              <p:cNvSpPr/>
              <p:nvPr/>
            </p:nvSpPr>
            <p:spPr>
              <a:xfrm>
                <a:off x="449280" y="522360"/>
                <a:ext cx="5079960" cy="398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99"/>
                    </a:solidFill>
                    <a:latin typeface="Comic Sans MS"/>
                  </a:rPr>
                  <a:t>Draw the following straight line graph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31840" y="1422360"/>
                <a:ext cx="1915920" cy="368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00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y = 2x +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3333cc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y = 3x – 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ff0000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y = -x + 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00cc99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cc99"/>
                    </a:solidFill>
                    <a:latin typeface="Comic Sans MS"/>
                  </a:rPr>
                  <a:t>y = -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ff66ff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Comic Sans MS"/>
                  </a:rPr>
                  <a:t>x = 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adb038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db038"/>
                    </a:solidFill>
                    <a:latin typeface="Comic Sans MS"/>
                  </a:rPr>
                  <a:t>Y = ½x –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0fa5b9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fa5b9"/>
                    </a:solidFill>
                    <a:latin typeface="Comic Sans MS"/>
                  </a:rPr>
                  <a:t>Y = - 4x -9</a:t>
                </a:r>
                <a:r>
                  <a:rPr b="0" lang="en-US" sz="2000" spc="-1" strike="noStrike">
                    <a:solidFill>
                      <a:srgbClr val="adb038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spcBef>
                    <a:spcPts val="1250"/>
                  </a:spcBef>
                  <a:buClr>
                    <a:srgbClr val="adb038"/>
                  </a:buClr>
                  <a:buFont typeface="Comic Sans MS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6" name=""/>
            <p:cNvSpPr/>
            <p:nvPr/>
          </p:nvSpPr>
          <p:spPr>
            <a:xfrm>
              <a:off x="5864400" y="1278000"/>
              <a:ext cx="0" cy="497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7" name=""/>
          <p:cNvSpPr/>
          <p:nvPr/>
        </p:nvSpPr>
        <p:spPr>
          <a:xfrm flipV="1">
            <a:off x="3774960" y="1353600"/>
            <a:ext cx="2165400" cy="431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 flipV="1">
            <a:off x="4700520" y="1257480"/>
            <a:ext cx="1676520" cy="4962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4254480" y="1409760"/>
            <a:ext cx="3251160" cy="3251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2768760" y="4749840"/>
            <a:ext cx="47242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6858000" y="1523880"/>
            <a:ext cx="0" cy="410220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 flipV="1">
            <a:off x="2776680" y="3076200"/>
            <a:ext cx="4690800" cy="2343240"/>
          </a:xfrm>
          <a:prstGeom prst="line">
            <a:avLst/>
          </a:prstGeom>
          <a:ln w="19080">
            <a:solidFill>
              <a:srgbClr val="ad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 flipH="1" flipV="1">
            <a:off x="4029120" y="1676520"/>
            <a:ext cx="1133280" cy="4566960"/>
          </a:xfrm>
          <a:prstGeom prst="line">
            <a:avLst/>
          </a:prstGeom>
          <a:ln w="19080">
            <a:solidFill>
              <a:srgbClr val="0fa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3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16:44:41Z</dcterms:created>
  <dc:creator> </dc:creator>
  <dc:description/>
  <dc:language>en-US</dc:language>
  <cp:lastModifiedBy>Caroline</cp:lastModifiedBy>
  <dcterms:modified xsi:type="dcterms:W3CDTF">2008-12-17T21:43:56Z</dcterms:modified>
  <cp:revision>1</cp:revision>
  <dc:subject/>
  <dc:title>PowerPoint Presentation</dc:title>
</cp:coreProperties>
</file>